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1948D-24AB-46E1-8C2B-4B62BD32A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40D41-8E70-4535-ACDC-652B4941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C3384-69AC-4209-A7AB-0DC2C901D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58207-18BC-4170-8D52-FE9DACBB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BA1A7-BD51-4720-B5D6-B2D634595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CD08-7E38-4DFB-87A7-A7F88A6B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204B-A5BE-42F6-BE41-C9CA7FF88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C62B-AD77-4445-ACF7-D5C4F1F15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7349-9510-48D0-86EB-654D8B027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1D6D-681B-4393-80C8-552D1FF7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4B81-EAE3-4326-A318-DB89461D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94EB-B08D-433D-87A9-827D20FF6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0646-D654-4059-9A07-75AC62DB4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11, 2011       Course 2 Warm-up</a:t>
            </a:r>
            <a:endParaRPr b="0" lang="en-US" sz="3200" spc="-1" strike="noStrike">
              <a:solidFill>
                <a:srgbClr val="000000"/>
              </a:solidFill>
              <a:latin typeface="Arial"/>
            </a:endParaRPr>
          </a:p>
        </p:txBody>
      </p:sp>
      <p:sp>
        <p:nvSpPr>
          <p:cNvPr id="42" name="PlaceHolder 2"/>
          <p:cNvSpPr>
            <a:spLocks noGrp="1"/>
          </p:cNvSpPr>
          <p:nvPr>
            <p:ph type="subTitle"/>
          </p:nvPr>
        </p:nvSpPr>
        <p:spPr>
          <a:xfrm>
            <a:off x="228240" y="1142640"/>
            <a:ext cx="8534520" cy="533412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 equivalent ratio…</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8</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missing number that will make the ratios equivalent.</a:t>
            </a:r>
            <a:endParaRPr b="0" lang="en-US" sz="24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 5 and 16 to ___</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2   and    ___ to 24</a:t>
            </a:r>
            <a:endParaRPr b="0" lang="en-US" sz="3200" spc="-1" strike="noStrike">
              <a:solidFill>
                <a:srgbClr val="000000"/>
              </a:solidFill>
              <a:latin typeface="Arial"/>
            </a:endParaRPr>
          </a:p>
        </p:txBody>
      </p:sp>
      <p:sp>
        <p:nvSpPr>
          <p:cNvPr id="43" name=""/>
          <p:cNvSpPr/>
          <p:nvPr/>
        </p:nvSpPr>
        <p:spPr>
          <a:xfrm>
            <a:off x="2205000" y="1901880"/>
            <a:ext cx="233280" cy="330120"/>
          </a:xfrm>
          <a:custGeom>
            <a:avLst/>
            <a:gdLst/>
            <a:ahLst/>
            <a:rect l="l" t="t" r="r" b="b"/>
            <a:pathLst>
              <a:path w="646" h="919">
                <a:moveTo>
                  <a:pt x="6350" y="5308"/>
                </a:moveTo>
                <a:cubicBezTo>
                  <a:pt x="6391" y="5294"/>
                  <a:pt x="6365" y="5298"/>
                  <a:pt x="6300" y="5457"/>
                </a:cubicBezTo>
                <a:cubicBezTo>
                  <a:pt x="6236" y="5616"/>
                  <a:pt x="6055" y="5956"/>
                  <a:pt x="6152" y="6127"/>
                </a:cubicBezTo>
                <a:cubicBezTo>
                  <a:pt x="6256" y="6310"/>
                  <a:pt x="6594" y="6150"/>
                  <a:pt x="6697" y="6052"/>
                </a:cubicBezTo>
                <a:cubicBezTo>
                  <a:pt x="6764" y="5941"/>
                  <a:pt x="6789" y="5915"/>
                  <a:pt x="6772" y="5829"/>
                </a:cubicBezTo>
                <a:cubicBezTo>
                  <a:pt x="6649" y="5758"/>
                  <a:pt x="6541" y="5783"/>
                  <a:pt x="6474" y="5928"/>
                </a:cubicBezTo>
                <a:cubicBezTo>
                  <a:pt x="6384" y="6122"/>
                  <a:pt x="6524" y="6124"/>
                  <a:pt x="6623" y="60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562120" y="1928880"/>
            <a:ext cx="3403800" cy="1303200"/>
          </a:xfrm>
          <a:custGeom>
            <a:avLst/>
            <a:gdLst/>
            <a:ahLst/>
            <a:rect l="l" t="t" r="r" b="b"/>
            <a:pathLst>
              <a:path w="9452" h="3622">
                <a:moveTo>
                  <a:pt x="7119" y="5457"/>
                </a:moveTo>
                <a:lnTo>
                  <a:pt x="7119" y="5457"/>
                </a:lnTo>
                <a:lnTo>
                  <a:pt x="7119" y="5457"/>
                </a:lnTo>
                <a:lnTo>
                  <a:pt x="7119" y="5457"/>
                </a:lnTo>
              </a:path>
              <a:path w="9452" h="3622">
                <a:moveTo>
                  <a:pt x="7119" y="5879"/>
                </a:moveTo>
                <a:lnTo>
                  <a:pt x="7119" y="5879"/>
                </a:lnTo>
                <a:lnTo>
                  <a:pt x="7119" y="5879"/>
                </a:lnTo>
              </a:path>
              <a:path w="9452" h="3622">
                <a:moveTo>
                  <a:pt x="7417" y="5358"/>
                </a:moveTo>
                <a:cubicBezTo>
                  <a:pt x="7453" y="5505"/>
                  <a:pt x="7467" y="5674"/>
                  <a:pt x="7491" y="5829"/>
                </a:cubicBezTo>
                <a:cubicBezTo>
                  <a:pt x="7491" y="5837"/>
                  <a:pt x="7491" y="5846"/>
                  <a:pt x="7491" y="5854"/>
                </a:cubicBezTo>
              </a:path>
              <a:path w="9452" h="3622">
                <a:moveTo>
                  <a:pt x="16545" y="8657"/>
                </a:moveTo>
                <a:cubicBezTo>
                  <a:pt x="16553" y="8665"/>
                  <a:pt x="16562" y="8674"/>
                  <a:pt x="16570" y="8682"/>
                </a:cubicBezTo>
              </a:path>
              <a:path w="9452" h="3622">
                <a:moveTo>
                  <a:pt x="16470" y="8979"/>
                </a:moveTo>
                <a:lnTo>
                  <a:pt x="16470" y="8979"/>
                </a:lnTo>
                <a:lnTo>
                  <a:pt x="16470" y="8979"/>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820960" y="1893960"/>
            <a:ext cx="171360" cy="249120"/>
          </a:xfrm>
          <a:custGeom>
            <a:avLst/>
            <a:gdLst/>
            <a:ahLst/>
            <a:rect l="l" t="t" r="r" b="b"/>
            <a:pathLst>
              <a:path w="473" h="695">
                <a:moveTo>
                  <a:pt x="7987" y="5283"/>
                </a:moveTo>
                <a:cubicBezTo>
                  <a:pt x="7971" y="5237"/>
                  <a:pt x="7937" y="5284"/>
                  <a:pt x="7913" y="5333"/>
                </a:cubicBezTo>
                <a:cubicBezTo>
                  <a:pt x="7889" y="5382"/>
                  <a:pt x="7847" y="5475"/>
                  <a:pt x="7838" y="5531"/>
                </a:cubicBezTo>
                <a:cubicBezTo>
                  <a:pt x="7827" y="5603"/>
                  <a:pt x="7863" y="5658"/>
                  <a:pt x="7863" y="5730"/>
                </a:cubicBezTo>
                <a:cubicBezTo>
                  <a:pt x="7863" y="5798"/>
                  <a:pt x="7852" y="5849"/>
                  <a:pt x="7888" y="5879"/>
                </a:cubicBezTo>
                <a:cubicBezTo>
                  <a:pt x="7954" y="5933"/>
                  <a:pt x="8006" y="5959"/>
                  <a:pt x="8086" y="5928"/>
                </a:cubicBezTo>
                <a:cubicBezTo>
                  <a:pt x="8150" y="5904"/>
                  <a:pt x="8182" y="5863"/>
                  <a:pt x="8235" y="5829"/>
                </a:cubicBezTo>
                <a:cubicBezTo>
                  <a:pt x="8307" y="5783"/>
                  <a:pt x="8310" y="5763"/>
                  <a:pt x="8310" y="5680"/>
                </a:cubicBezTo>
                <a:cubicBezTo>
                  <a:pt x="8310" y="5641"/>
                  <a:pt x="8321" y="5606"/>
                  <a:pt x="8285" y="5581"/>
                </a:cubicBezTo>
                <a:cubicBezTo>
                  <a:pt x="8211" y="5530"/>
                  <a:pt x="8167" y="5556"/>
                  <a:pt x="8136" y="5631"/>
                </a:cubicBezTo>
                <a:cubicBezTo>
                  <a:pt x="8108" y="5699"/>
                  <a:pt x="8111" y="5758"/>
                  <a:pt x="8111" y="5829"/>
                </a:cubicBezTo>
                <a:cubicBezTo>
                  <a:pt x="8111" y="5890"/>
                  <a:pt x="8123" y="5903"/>
                  <a:pt x="8136"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1080" y="1687680"/>
            <a:ext cx="214200" cy="169560"/>
          </a:xfrm>
          <a:custGeom>
            <a:avLst/>
            <a:gdLst/>
            <a:ahLst/>
            <a:rect l="l" t="t" r="r" b="b"/>
            <a:pathLst>
              <a:path w="597" h="472">
                <a:moveTo>
                  <a:pt x="3001" y="4936"/>
                </a:moveTo>
                <a:cubicBezTo>
                  <a:pt x="3055" y="4950"/>
                  <a:pt x="3098" y="5003"/>
                  <a:pt x="3150" y="5035"/>
                </a:cubicBezTo>
              </a:path>
              <a:path w="597" h="472">
                <a:moveTo>
                  <a:pt x="3175" y="4812"/>
                </a:moveTo>
                <a:cubicBezTo>
                  <a:pt x="3142" y="4926"/>
                  <a:pt x="3137" y="5060"/>
                  <a:pt x="3101" y="5159"/>
                </a:cubicBezTo>
              </a:path>
              <a:path w="597" h="472">
                <a:moveTo>
                  <a:pt x="3324" y="4762"/>
                </a:moveTo>
                <a:cubicBezTo>
                  <a:pt x="3362" y="4717"/>
                  <a:pt x="3377" y="4720"/>
                  <a:pt x="3398" y="4688"/>
                </a:cubicBezTo>
                <a:cubicBezTo>
                  <a:pt x="3435" y="4824"/>
                  <a:pt x="3363" y="4939"/>
                  <a:pt x="3373" y="5060"/>
                </a:cubicBezTo>
                <a:cubicBezTo>
                  <a:pt x="3381" y="5060"/>
                  <a:pt x="3390" y="5060"/>
                  <a:pt x="3398" y="5060"/>
                </a:cubicBezTo>
                <a:cubicBezTo>
                  <a:pt x="3467" y="5014"/>
                  <a:pt x="3526" y="4939"/>
                  <a:pt x="3597" y="49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803760" y="1919160"/>
            <a:ext cx="188640" cy="349200"/>
          </a:xfrm>
          <a:custGeom>
            <a:avLst/>
            <a:gdLst/>
            <a:ahLst/>
            <a:rect l="l" t="t" r="r" b="b"/>
            <a:pathLst>
              <a:path w="522" h="968">
                <a:moveTo>
                  <a:pt x="11088" y="5631"/>
                </a:moveTo>
                <a:cubicBezTo>
                  <a:pt x="11077" y="5486"/>
                  <a:pt x="11046" y="5342"/>
                  <a:pt x="10864" y="5333"/>
                </a:cubicBezTo>
                <a:cubicBezTo>
                  <a:pt x="10631" y="5322"/>
                  <a:pt x="10458" y="5643"/>
                  <a:pt x="10616" y="5829"/>
                </a:cubicBezTo>
                <a:cubicBezTo>
                  <a:pt x="10657" y="5837"/>
                  <a:pt x="10699" y="5846"/>
                  <a:pt x="10740" y="5854"/>
                </a:cubicBezTo>
                <a:cubicBezTo>
                  <a:pt x="10920" y="5712"/>
                  <a:pt x="10956" y="5622"/>
                  <a:pt x="11038" y="5407"/>
                </a:cubicBezTo>
                <a:cubicBezTo>
                  <a:pt x="11038" y="5606"/>
                  <a:pt x="11056" y="5775"/>
                  <a:pt x="11038" y="5978"/>
                </a:cubicBezTo>
                <a:cubicBezTo>
                  <a:pt x="11028" y="6098"/>
                  <a:pt x="11013" y="6185"/>
                  <a:pt x="11013" y="63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97240" y="1847880"/>
            <a:ext cx="347760" cy="339840"/>
          </a:xfrm>
          <a:custGeom>
            <a:avLst/>
            <a:gdLst/>
            <a:ahLst/>
            <a:rect l="l" t="t" r="r" b="b"/>
            <a:pathLst>
              <a:path w="969" h="943">
                <a:moveTo>
                  <a:pt x="11807" y="5482"/>
                </a:moveTo>
                <a:cubicBezTo>
                  <a:pt x="11827" y="5370"/>
                  <a:pt x="11833" y="5380"/>
                  <a:pt x="11931" y="5308"/>
                </a:cubicBezTo>
                <a:cubicBezTo>
                  <a:pt x="12085" y="5432"/>
                  <a:pt x="12033" y="5631"/>
                  <a:pt x="11906" y="5804"/>
                </a:cubicBezTo>
                <a:cubicBezTo>
                  <a:pt x="11828" y="5910"/>
                  <a:pt x="11783" y="6012"/>
                  <a:pt x="11658" y="6052"/>
                </a:cubicBezTo>
                <a:cubicBezTo>
                  <a:pt x="11780" y="5945"/>
                  <a:pt x="11806" y="5936"/>
                  <a:pt x="11956" y="6003"/>
                </a:cubicBezTo>
                <a:cubicBezTo>
                  <a:pt x="12005" y="6028"/>
                  <a:pt x="12022" y="6036"/>
                  <a:pt x="12055" y="6052"/>
                </a:cubicBezTo>
              </a:path>
              <a:path w="969" h="943">
                <a:moveTo>
                  <a:pt x="12278" y="5531"/>
                </a:moveTo>
                <a:cubicBezTo>
                  <a:pt x="12294" y="5667"/>
                  <a:pt x="12298" y="5630"/>
                  <a:pt x="12278" y="5730"/>
                </a:cubicBezTo>
                <a:cubicBezTo>
                  <a:pt x="12396" y="5719"/>
                  <a:pt x="12507" y="5705"/>
                  <a:pt x="12626" y="5705"/>
                </a:cubicBezTo>
              </a:path>
              <a:path w="969" h="943">
                <a:moveTo>
                  <a:pt x="12526" y="5135"/>
                </a:moveTo>
                <a:cubicBezTo>
                  <a:pt x="12550" y="5351"/>
                  <a:pt x="12559" y="5562"/>
                  <a:pt x="12576" y="5779"/>
                </a:cubicBezTo>
                <a:cubicBezTo>
                  <a:pt x="12579" y="5819"/>
                  <a:pt x="12644" y="6030"/>
                  <a:pt x="12576" y="60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35000" y="1946160"/>
            <a:ext cx="3386160" cy="3795840"/>
          </a:xfrm>
          <a:custGeom>
            <a:avLst/>
            <a:gdLst/>
            <a:ahLst/>
            <a:rect l="l" t="t" r="r" b="b"/>
            <a:pathLst>
              <a:path w="9402" h="10543">
                <a:moveTo>
                  <a:pt x="11410" y="5531"/>
                </a:moveTo>
                <a:lnTo>
                  <a:pt x="11410" y="5531"/>
                </a:lnTo>
              </a:path>
              <a:path w="9402" h="10543">
                <a:moveTo>
                  <a:pt x="11435" y="5928"/>
                </a:moveTo>
                <a:cubicBezTo>
                  <a:pt x="11435" y="5893"/>
                  <a:pt x="11440" y="5876"/>
                  <a:pt x="11460" y="5854"/>
                </a:cubicBezTo>
              </a:path>
              <a:path w="9402" h="10543">
                <a:moveTo>
                  <a:pt x="12278" y="5407"/>
                </a:moveTo>
                <a:cubicBezTo>
                  <a:pt x="12273" y="5482"/>
                  <a:pt x="12266" y="5535"/>
                  <a:pt x="12254" y="5606"/>
                </a:cubicBezTo>
              </a:path>
              <a:path w="9402" h="10543">
                <a:moveTo>
                  <a:pt x="3770" y="12378"/>
                </a:moveTo>
                <a:cubicBezTo>
                  <a:pt x="3806" y="12537"/>
                  <a:pt x="3863" y="12678"/>
                  <a:pt x="3919" y="12824"/>
                </a:cubicBezTo>
                <a:cubicBezTo>
                  <a:pt x="3919" y="12832"/>
                  <a:pt x="3919" y="12841"/>
                  <a:pt x="3919" y="12849"/>
                </a:cubicBezTo>
              </a:path>
              <a:path w="9402" h="10543">
                <a:moveTo>
                  <a:pt x="5556" y="12774"/>
                </a:moveTo>
                <a:cubicBezTo>
                  <a:pt x="5550" y="12794"/>
                  <a:pt x="5422" y="13249"/>
                  <a:pt x="5507" y="13022"/>
                </a:cubicBezTo>
              </a:path>
              <a:path w="9402" h="10543">
                <a:moveTo>
                  <a:pt x="2877" y="15825"/>
                </a:moveTo>
                <a:cubicBezTo>
                  <a:pt x="2972" y="15854"/>
                  <a:pt x="3172" y="15880"/>
                  <a:pt x="3225" y="159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678040" y="3098880"/>
            <a:ext cx="1509840" cy="169920"/>
          </a:xfrm>
          <a:custGeom>
            <a:avLst/>
            <a:gdLst/>
            <a:ahLst/>
            <a:rect l="l" t="t" r="r" b="b"/>
            <a:pathLst>
              <a:path w="4193" h="473">
                <a:moveTo>
                  <a:pt x="7466" y="8830"/>
                </a:moveTo>
                <a:lnTo>
                  <a:pt x="7466" y="8830"/>
                </a:lnTo>
              </a:path>
              <a:path w="4193" h="473">
                <a:moveTo>
                  <a:pt x="7466" y="9079"/>
                </a:moveTo>
                <a:cubicBezTo>
                  <a:pt x="7458" y="9079"/>
                  <a:pt x="7449" y="9079"/>
                  <a:pt x="7441" y="9079"/>
                </a:cubicBezTo>
              </a:path>
              <a:path w="4193" h="473">
                <a:moveTo>
                  <a:pt x="11633" y="8632"/>
                </a:moveTo>
                <a:cubicBezTo>
                  <a:pt x="11633" y="8624"/>
                  <a:pt x="11633" y="8615"/>
                  <a:pt x="11633" y="8607"/>
                </a:cubicBezTo>
              </a:path>
              <a:path w="4193" h="473">
                <a:moveTo>
                  <a:pt x="11584" y="8905"/>
                </a:moveTo>
                <a:cubicBezTo>
                  <a:pt x="11584" y="8933"/>
                  <a:pt x="11586" y="8939"/>
                  <a:pt x="11609" y="89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320920" y="3054240"/>
            <a:ext cx="243000" cy="320760"/>
          </a:xfrm>
          <a:custGeom>
            <a:avLst/>
            <a:gdLst/>
            <a:ahLst/>
            <a:rect l="l" t="t" r="r" b="b"/>
            <a:pathLst>
              <a:path w="671" h="894">
                <a:moveTo>
                  <a:pt x="6524" y="8607"/>
                </a:moveTo>
                <a:cubicBezTo>
                  <a:pt x="6524" y="8824"/>
                  <a:pt x="6511" y="9038"/>
                  <a:pt x="6474" y="9252"/>
                </a:cubicBezTo>
                <a:cubicBezTo>
                  <a:pt x="6455" y="9326"/>
                  <a:pt x="6447" y="9333"/>
                  <a:pt x="6449" y="9376"/>
                </a:cubicBezTo>
              </a:path>
              <a:path w="671" h="894">
                <a:moveTo>
                  <a:pt x="6846" y="8806"/>
                </a:moveTo>
                <a:cubicBezTo>
                  <a:pt x="6825" y="8883"/>
                  <a:pt x="6814" y="8940"/>
                  <a:pt x="6772" y="9004"/>
                </a:cubicBezTo>
                <a:cubicBezTo>
                  <a:pt x="6873" y="8987"/>
                  <a:pt x="6994" y="8945"/>
                  <a:pt x="7094" y="9004"/>
                </a:cubicBezTo>
                <a:cubicBezTo>
                  <a:pt x="7102" y="9021"/>
                  <a:pt x="7111" y="9037"/>
                  <a:pt x="7119" y="9054"/>
                </a:cubicBezTo>
              </a:path>
              <a:path w="671" h="894">
                <a:moveTo>
                  <a:pt x="7119" y="8483"/>
                </a:moveTo>
                <a:cubicBezTo>
                  <a:pt x="7098" y="8736"/>
                  <a:pt x="7144" y="8995"/>
                  <a:pt x="7119" y="9252"/>
                </a:cubicBezTo>
                <a:cubicBezTo>
                  <a:pt x="7111" y="9285"/>
                  <a:pt x="7102" y="9318"/>
                  <a:pt x="7094" y="935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68760" y="3054240"/>
            <a:ext cx="241200" cy="276480"/>
          </a:xfrm>
          <a:custGeom>
            <a:avLst/>
            <a:gdLst/>
            <a:ahLst/>
            <a:rect l="l" t="t" r="r" b="b"/>
            <a:pathLst>
              <a:path w="671" h="770">
                <a:moveTo>
                  <a:pt x="7689" y="8558"/>
                </a:moveTo>
                <a:cubicBezTo>
                  <a:pt x="7711" y="8773"/>
                  <a:pt x="7723" y="8964"/>
                  <a:pt x="7714" y="9178"/>
                </a:cubicBezTo>
                <a:cubicBezTo>
                  <a:pt x="7714" y="9236"/>
                  <a:pt x="7714" y="9277"/>
                  <a:pt x="7714" y="9227"/>
                </a:cubicBezTo>
              </a:path>
              <a:path w="671" h="770">
                <a:moveTo>
                  <a:pt x="8285" y="8483"/>
                </a:moveTo>
                <a:cubicBezTo>
                  <a:pt x="8127" y="8584"/>
                  <a:pt x="8036" y="8636"/>
                  <a:pt x="7962" y="8806"/>
                </a:cubicBezTo>
                <a:cubicBezTo>
                  <a:pt x="8049" y="8925"/>
                  <a:pt x="8331" y="8923"/>
                  <a:pt x="8359" y="9079"/>
                </a:cubicBezTo>
                <a:cubicBezTo>
                  <a:pt x="8310" y="9178"/>
                  <a:pt x="8293" y="9211"/>
                  <a:pt x="8210" y="9227"/>
                </a:cubicBezTo>
                <a:cubicBezTo>
                  <a:pt x="8101" y="9063"/>
                  <a:pt x="8230" y="8854"/>
                  <a:pt x="8285" y="8657"/>
                </a:cubicBezTo>
                <a:cubicBezTo>
                  <a:pt x="8323" y="8523"/>
                  <a:pt x="8307" y="8537"/>
                  <a:pt x="8260"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705120" y="3036960"/>
            <a:ext cx="349200" cy="276120"/>
          </a:xfrm>
          <a:custGeom>
            <a:avLst/>
            <a:gdLst/>
            <a:ahLst/>
            <a:rect l="l" t="t" r="r" b="b"/>
            <a:pathLst>
              <a:path w="968" h="770">
                <a:moveTo>
                  <a:pt x="10344" y="8558"/>
                </a:moveTo>
                <a:cubicBezTo>
                  <a:pt x="10344" y="8678"/>
                  <a:pt x="10329" y="8750"/>
                  <a:pt x="10294" y="8855"/>
                </a:cubicBezTo>
                <a:cubicBezTo>
                  <a:pt x="10437" y="8855"/>
                  <a:pt x="10582" y="8837"/>
                  <a:pt x="10716" y="8781"/>
                </a:cubicBezTo>
                <a:cubicBezTo>
                  <a:pt x="10744" y="8752"/>
                  <a:pt x="10752" y="8739"/>
                  <a:pt x="10740" y="8706"/>
                </a:cubicBezTo>
              </a:path>
              <a:path w="968" h="770">
                <a:moveTo>
                  <a:pt x="10641" y="8434"/>
                </a:moveTo>
                <a:cubicBezTo>
                  <a:pt x="10641" y="8683"/>
                  <a:pt x="10660" y="8936"/>
                  <a:pt x="10641" y="9178"/>
                </a:cubicBezTo>
                <a:cubicBezTo>
                  <a:pt x="10641" y="9203"/>
                  <a:pt x="10641" y="9211"/>
                  <a:pt x="10641" y="9178"/>
                </a:cubicBezTo>
              </a:path>
              <a:path w="968" h="770">
                <a:moveTo>
                  <a:pt x="11212" y="8657"/>
                </a:moveTo>
                <a:cubicBezTo>
                  <a:pt x="11167" y="8502"/>
                  <a:pt x="11129" y="8486"/>
                  <a:pt x="10988" y="8458"/>
                </a:cubicBezTo>
                <a:cubicBezTo>
                  <a:pt x="10879" y="8607"/>
                  <a:pt x="10857" y="8668"/>
                  <a:pt x="10840" y="8855"/>
                </a:cubicBezTo>
                <a:cubicBezTo>
                  <a:pt x="11066" y="8895"/>
                  <a:pt x="11107" y="8790"/>
                  <a:pt x="11212" y="8582"/>
                </a:cubicBezTo>
                <a:cubicBezTo>
                  <a:pt x="11220" y="8566"/>
                  <a:pt x="11229" y="8549"/>
                  <a:pt x="11237" y="8533"/>
                </a:cubicBezTo>
                <a:cubicBezTo>
                  <a:pt x="11257" y="8740"/>
                  <a:pt x="11250" y="8922"/>
                  <a:pt x="11237" y="9128"/>
                </a:cubicBezTo>
                <a:cubicBezTo>
                  <a:pt x="11237" y="9153"/>
                  <a:pt x="11237" y="9178"/>
                  <a:pt x="11237" y="920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286160" y="3017880"/>
            <a:ext cx="349200" cy="287280"/>
          </a:xfrm>
          <a:custGeom>
            <a:avLst/>
            <a:gdLst/>
            <a:ahLst/>
            <a:rect l="l" t="t" r="r" b="b"/>
            <a:pathLst>
              <a:path w="969" h="795">
                <a:moveTo>
                  <a:pt x="11956" y="8458"/>
                </a:moveTo>
                <a:cubicBezTo>
                  <a:pt x="11956" y="8610"/>
                  <a:pt x="11920" y="8732"/>
                  <a:pt x="11906" y="8880"/>
                </a:cubicBezTo>
                <a:cubicBezTo>
                  <a:pt x="11906" y="9030"/>
                  <a:pt x="11900" y="9065"/>
                  <a:pt x="11931" y="9153"/>
                </a:cubicBezTo>
                <a:cubicBezTo>
                  <a:pt x="12155" y="9153"/>
                  <a:pt x="12258" y="9071"/>
                  <a:pt x="12353" y="8855"/>
                </a:cubicBezTo>
                <a:cubicBezTo>
                  <a:pt x="12353" y="8847"/>
                  <a:pt x="12353" y="8838"/>
                  <a:pt x="12353" y="8830"/>
                </a:cubicBezTo>
                <a:cubicBezTo>
                  <a:pt x="12260" y="8861"/>
                  <a:pt x="12087" y="8993"/>
                  <a:pt x="12204" y="9128"/>
                </a:cubicBezTo>
                <a:cubicBezTo>
                  <a:pt x="12221" y="9128"/>
                  <a:pt x="12237" y="9128"/>
                  <a:pt x="12254" y="9128"/>
                </a:cubicBezTo>
              </a:path>
              <a:path w="969" h="795">
                <a:moveTo>
                  <a:pt x="12551" y="8508"/>
                </a:moveTo>
                <a:cubicBezTo>
                  <a:pt x="12591" y="8429"/>
                  <a:pt x="12623" y="8422"/>
                  <a:pt x="12700" y="8384"/>
                </a:cubicBezTo>
                <a:cubicBezTo>
                  <a:pt x="12798" y="8524"/>
                  <a:pt x="12774" y="8624"/>
                  <a:pt x="12650" y="8756"/>
                </a:cubicBezTo>
                <a:cubicBezTo>
                  <a:pt x="12642" y="8756"/>
                  <a:pt x="12634" y="8756"/>
                  <a:pt x="12626" y="8756"/>
                </a:cubicBezTo>
                <a:cubicBezTo>
                  <a:pt x="12649" y="8661"/>
                  <a:pt x="12827" y="8685"/>
                  <a:pt x="12874" y="8756"/>
                </a:cubicBezTo>
                <a:cubicBezTo>
                  <a:pt x="12942" y="8859"/>
                  <a:pt x="12739" y="9045"/>
                  <a:pt x="12650" y="9054"/>
                </a:cubicBezTo>
                <a:cubicBezTo>
                  <a:pt x="12650" y="9046"/>
                  <a:pt x="12650" y="9037"/>
                  <a:pt x="12650"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537160" y="3044880"/>
            <a:ext cx="330120" cy="277920"/>
          </a:xfrm>
          <a:custGeom>
            <a:avLst/>
            <a:gdLst/>
            <a:ahLst/>
            <a:rect l="l" t="t" r="r" b="b"/>
            <a:pathLst>
              <a:path w="919" h="770">
                <a:moveTo>
                  <a:pt x="15404" y="8607"/>
                </a:moveTo>
                <a:cubicBezTo>
                  <a:pt x="15374" y="8696"/>
                  <a:pt x="15419" y="8529"/>
                  <a:pt x="15453" y="8508"/>
                </a:cubicBezTo>
                <a:cubicBezTo>
                  <a:pt x="15543" y="8452"/>
                  <a:pt x="15689" y="8431"/>
                  <a:pt x="15776" y="8483"/>
                </a:cubicBezTo>
                <a:cubicBezTo>
                  <a:pt x="15715" y="8687"/>
                  <a:pt x="15546" y="9016"/>
                  <a:pt x="15553" y="9227"/>
                </a:cubicBezTo>
                <a:cubicBezTo>
                  <a:pt x="15569" y="9227"/>
                  <a:pt x="15586" y="9227"/>
                  <a:pt x="15602" y="9227"/>
                </a:cubicBezTo>
              </a:path>
              <a:path w="919" h="770">
                <a:moveTo>
                  <a:pt x="16098" y="8533"/>
                </a:moveTo>
                <a:cubicBezTo>
                  <a:pt x="16025" y="8754"/>
                  <a:pt x="15974" y="8904"/>
                  <a:pt x="15974" y="9128"/>
                </a:cubicBezTo>
                <a:cubicBezTo>
                  <a:pt x="16219" y="9144"/>
                  <a:pt x="16329" y="9022"/>
                  <a:pt x="16297" y="8756"/>
                </a:cubicBezTo>
                <a:cubicBezTo>
                  <a:pt x="16281" y="8623"/>
                  <a:pt x="16186" y="8623"/>
                  <a:pt x="16098"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72120" y="3027240"/>
            <a:ext cx="357120" cy="268560"/>
          </a:xfrm>
          <a:custGeom>
            <a:avLst/>
            <a:gdLst/>
            <a:ahLst/>
            <a:rect l="l" t="t" r="r" b="b"/>
            <a:pathLst>
              <a:path w="993" h="745">
                <a:moveTo>
                  <a:pt x="17090" y="8657"/>
                </a:moveTo>
                <a:cubicBezTo>
                  <a:pt x="17148" y="8638"/>
                  <a:pt x="17142" y="8544"/>
                  <a:pt x="17115" y="8483"/>
                </a:cubicBezTo>
                <a:cubicBezTo>
                  <a:pt x="17099" y="8458"/>
                  <a:pt x="17082" y="8434"/>
                  <a:pt x="17066" y="8409"/>
                </a:cubicBezTo>
                <a:cubicBezTo>
                  <a:pt x="16942" y="8450"/>
                  <a:pt x="16813" y="8587"/>
                  <a:pt x="16867" y="8756"/>
                </a:cubicBezTo>
                <a:cubicBezTo>
                  <a:pt x="16884" y="8764"/>
                  <a:pt x="16900" y="8773"/>
                  <a:pt x="16917" y="8781"/>
                </a:cubicBezTo>
                <a:cubicBezTo>
                  <a:pt x="17001" y="8716"/>
                  <a:pt x="17093" y="8667"/>
                  <a:pt x="17115" y="8558"/>
                </a:cubicBezTo>
                <a:cubicBezTo>
                  <a:pt x="17115" y="8712"/>
                  <a:pt x="17094" y="8826"/>
                  <a:pt x="17066" y="8979"/>
                </a:cubicBezTo>
                <a:cubicBezTo>
                  <a:pt x="17047" y="9090"/>
                  <a:pt x="17066" y="9112"/>
                  <a:pt x="17016" y="9153"/>
                </a:cubicBezTo>
              </a:path>
              <a:path w="993" h="745">
                <a:moveTo>
                  <a:pt x="17562" y="8483"/>
                </a:moveTo>
                <a:cubicBezTo>
                  <a:pt x="17533" y="8627"/>
                  <a:pt x="17438" y="8754"/>
                  <a:pt x="17413" y="8905"/>
                </a:cubicBezTo>
                <a:cubicBezTo>
                  <a:pt x="17413" y="9011"/>
                  <a:pt x="17400" y="9039"/>
                  <a:pt x="17462" y="9079"/>
                </a:cubicBezTo>
                <a:cubicBezTo>
                  <a:pt x="17650" y="8985"/>
                  <a:pt x="17970" y="8849"/>
                  <a:pt x="17810" y="8582"/>
                </a:cubicBezTo>
                <a:cubicBezTo>
                  <a:pt x="17725" y="8440"/>
                  <a:pt x="17630" y="8481"/>
                  <a:pt x="17512" y="85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902040" y="4680000"/>
            <a:ext cx="384120" cy="293760"/>
          </a:xfrm>
          <a:custGeom>
            <a:avLst/>
            <a:gdLst/>
            <a:ahLst/>
            <a:rect l="l" t="t" r="r" b="b"/>
            <a:pathLst>
              <a:path w="1067" h="819">
                <a:moveTo>
                  <a:pt x="11137" y="13444"/>
                </a:moveTo>
                <a:cubicBezTo>
                  <a:pt x="11108" y="13357"/>
                  <a:pt x="11028" y="13234"/>
                  <a:pt x="11137" y="13146"/>
                </a:cubicBezTo>
                <a:cubicBezTo>
                  <a:pt x="11170" y="13138"/>
                  <a:pt x="11204" y="13130"/>
                  <a:pt x="11237" y="13122"/>
                </a:cubicBezTo>
                <a:cubicBezTo>
                  <a:pt x="11360" y="13339"/>
                  <a:pt x="11232" y="13594"/>
                  <a:pt x="11013" y="13767"/>
                </a:cubicBezTo>
                <a:cubicBezTo>
                  <a:pt x="10972" y="13783"/>
                  <a:pt x="10930" y="13800"/>
                  <a:pt x="10889" y="13816"/>
                </a:cubicBezTo>
                <a:cubicBezTo>
                  <a:pt x="10801" y="13684"/>
                  <a:pt x="10882" y="13580"/>
                  <a:pt x="11063" y="13568"/>
                </a:cubicBezTo>
                <a:cubicBezTo>
                  <a:pt x="11217" y="13558"/>
                  <a:pt x="11362" y="13596"/>
                  <a:pt x="11410" y="13742"/>
                </a:cubicBezTo>
              </a:path>
              <a:path w="1067" h="819">
                <a:moveTo>
                  <a:pt x="11733" y="12998"/>
                </a:moveTo>
                <a:cubicBezTo>
                  <a:pt x="11557" y="13026"/>
                  <a:pt x="11559" y="13241"/>
                  <a:pt x="11559" y="13395"/>
                </a:cubicBezTo>
                <a:cubicBezTo>
                  <a:pt x="11581" y="13545"/>
                  <a:pt x="11573" y="13586"/>
                  <a:pt x="11658" y="13643"/>
                </a:cubicBezTo>
                <a:cubicBezTo>
                  <a:pt x="11888" y="13558"/>
                  <a:pt x="12014" y="13371"/>
                  <a:pt x="11832" y="13122"/>
                </a:cubicBezTo>
                <a:cubicBezTo>
                  <a:pt x="11720" y="13054"/>
                  <a:pt x="11693" y="13026"/>
                  <a:pt x="11609"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33640" y="4473720"/>
            <a:ext cx="233280" cy="161640"/>
          </a:xfrm>
          <a:custGeom>
            <a:avLst/>
            <a:gdLst/>
            <a:ahLst/>
            <a:rect l="l" t="t" r="r" b="b"/>
            <a:pathLst>
              <a:path w="646" h="448">
                <a:moveTo>
                  <a:pt x="3150" y="12576"/>
                </a:moveTo>
                <a:cubicBezTo>
                  <a:pt x="3150" y="12568"/>
                  <a:pt x="3150" y="12559"/>
                  <a:pt x="3150" y="12551"/>
                </a:cubicBezTo>
                <a:cubicBezTo>
                  <a:pt x="3247" y="12575"/>
                  <a:pt x="3324" y="12700"/>
                  <a:pt x="3398" y="12774"/>
                </a:cubicBezTo>
                <a:cubicBezTo>
                  <a:pt x="3421" y="12797"/>
                  <a:pt x="3429" y="12808"/>
                  <a:pt x="3423" y="12774"/>
                </a:cubicBezTo>
              </a:path>
              <a:path w="646" h="448">
                <a:moveTo>
                  <a:pt x="3423" y="12427"/>
                </a:moveTo>
                <a:cubicBezTo>
                  <a:pt x="3381" y="12571"/>
                  <a:pt x="3364" y="12746"/>
                  <a:pt x="3299" y="12874"/>
                </a:cubicBezTo>
              </a:path>
              <a:path w="646" h="448">
                <a:moveTo>
                  <a:pt x="3547" y="12551"/>
                </a:moveTo>
                <a:cubicBezTo>
                  <a:pt x="3574" y="12623"/>
                  <a:pt x="3570" y="12690"/>
                  <a:pt x="3671" y="12675"/>
                </a:cubicBezTo>
                <a:cubicBezTo>
                  <a:pt x="3748" y="12656"/>
                  <a:pt x="3765" y="12663"/>
                  <a:pt x="3795"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938240" y="4491000"/>
            <a:ext cx="214560" cy="196920"/>
          </a:xfrm>
          <a:custGeom>
            <a:avLst/>
            <a:gdLst/>
            <a:ahLst/>
            <a:rect l="l" t="t" r="r" b="b"/>
            <a:pathLst>
              <a:path w="596" h="546">
                <a:moveTo>
                  <a:pt x="5383" y="12799"/>
                </a:moveTo>
                <a:cubicBezTo>
                  <a:pt x="5414" y="12818"/>
                  <a:pt x="5625" y="12980"/>
                  <a:pt x="5631" y="12973"/>
                </a:cubicBezTo>
                <a:cubicBezTo>
                  <a:pt x="5631" y="12956"/>
                  <a:pt x="5631" y="12940"/>
                  <a:pt x="5631" y="12923"/>
                </a:cubicBezTo>
              </a:path>
              <a:path w="596" h="546">
                <a:moveTo>
                  <a:pt x="5705" y="12750"/>
                </a:moveTo>
                <a:cubicBezTo>
                  <a:pt x="5705" y="12774"/>
                  <a:pt x="5705" y="12783"/>
                  <a:pt x="5705" y="12799"/>
                </a:cubicBezTo>
                <a:cubicBezTo>
                  <a:pt x="5824" y="12783"/>
                  <a:pt x="5838" y="12780"/>
                  <a:pt x="5928" y="12700"/>
                </a:cubicBezTo>
              </a:path>
              <a:path w="596" h="546">
                <a:moveTo>
                  <a:pt x="5879" y="12477"/>
                </a:moveTo>
                <a:cubicBezTo>
                  <a:pt x="5895" y="12656"/>
                  <a:pt x="5942" y="12822"/>
                  <a:pt x="5978" y="12998"/>
                </a:cubicBezTo>
                <a:cubicBezTo>
                  <a:pt x="5978" y="13006"/>
                  <a:pt x="5978" y="13014"/>
                  <a:pt x="5978" y="1302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65200" y="5670720"/>
            <a:ext cx="357120" cy="231480"/>
          </a:xfrm>
          <a:custGeom>
            <a:avLst/>
            <a:gdLst/>
            <a:ahLst/>
            <a:rect l="l" t="t" r="r" b="b"/>
            <a:pathLst>
              <a:path w="993" h="646">
                <a:moveTo>
                  <a:pt x="4068" y="16024"/>
                </a:moveTo>
                <a:cubicBezTo>
                  <a:pt x="4113" y="16125"/>
                  <a:pt x="4215" y="16164"/>
                  <a:pt x="4291" y="16247"/>
                </a:cubicBezTo>
                <a:cubicBezTo>
                  <a:pt x="4299" y="16255"/>
                  <a:pt x="4308" y="16264"/>
                  <a:pt x="4316" y="16272"/>
                </a:cubicBezTo>
              </a:path>
              <a:path w="993" h="646">
                <a:moveTo>
                  <a:pt x="4266" y="15974"/>
                </a:moveTo>
                <a:cubicBezTo>
                  <a:pt x="4250" y="16092"/>
                  <a:pt x="4242" y="16201"/>
                  <a:pt x="4242" y="16321"/>
                </a:cubicBezTo>
                <a:cubicBezTo>
                  <a:pt x="4242" y="16329"/>
                  <a:pt x="4242" y="16477"/>
                  <a:pt x="4242" y="16346"/>
                </a:cubicBezTo>
              </a:path>
              <a:path w="993" h="646">
                <a:moveTo>
                  <a:pt x="4514" y="15925"/>
                </a:moveTo>
                <a:cubicBezTo>
                  <a:pt x="4537" y="16017"/>
                  <a:pt x="4561" y="16107"/>
                  <a:pt x="4589" y="16197"/>
                </a:cubicBezTo>
              </a:path>
              <a:path w="993" h="646">
                <a:moveTo>
                  <a:pt x="4663" y="15801"/>
                </a:moveTo>
                <a:cubicBezTo>
                  <a:pt x="4736" y="15768"/>
                  <a:pt x="4859" y="15689"/>
                  <a:pt x="4887" y="15825"/>
                </a:cubicBezTo>
                <a:cubicBezTo>
                  <a:pt x="4904" y="15906"/>
                  <a:pt x="4824" y="16117"/>
                  <a:pt x="4837" y="16123"/>
                </a:cubicBezTo>
                <a:cubicBezTo>
                  <a:pt x="4906" y="16068"/>
                  <a:pt x="5003" y="15986"/>
                  <a:pt x="5060" y="160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081080" y="5510160"/>
            <a:ext cx="303120" cy="293760"/>
          </a:xfrm>
          <a:custGeom>
            <a:avLst/>
            <a:gdLst/>
            <a:ahLst/>
            <a:rect l="l" t="t" r="r" b="b"/>
            <a:pathLst>
              <a:path w="845" h="820">
                <a:moveTo>
                  <a:pt x="3001" y="15701"/>
                </a:moveTo>
                <a:cubicBezTo>
                  <a:pt x="3037" y="15828"/>
                  <a:pt x="3053" y="16013"/>
                  <a:pt x="3125" y="16123"/>
                </a:cubicBezTo>
                <a:cubicBezTo>
                  <a:pt x="3125" y="16115"/>
                  <a:pt x="3125" y="16106"/>
                  <a:pt x="3125" y="16098"/>
                </a:cubicBezTo>
              </a:path>
              <a:path w="845" h="820">
                <a:moveTo>
                  <a:pt x="3150" y="15553"/>
                </a:moveTo>
                <a:cubicBezTo>
                  <a:pt x="3235" y="15623"/>
                  <a:pt x="3325" y="15908"/>
                  <a:pt x="3349" y="15801"/>
                </a:cubicBezTo>
                <a:cubicBezTo>
                  <a:pt x="3349" y="15776"/>
                  <a:pt x="3349" y="15751"/>
                  <a:pt x="3349" y="15726"/>
                </a:cubicBezTo>
              </a:path>
              <a:path w="845" h="820">
                <a:moveTo>
                  <a:pt x="3373" y="15379"/>
                </a:moveTo>
                <a:cubicBezTo>
                  <a:pt x="3429" y="15360"/>
                  <a:pt x="3489" y="15328"/>
                  <a:pt x="3547" y="15304"/>
                </a:cubicBezTo>
                <a:cubicBezTo>
                  <a:pt x="3613" y="15419"/>
                  <a:pt x="3594" y="15549"/>
                  <a:pt x="3547" y="15677"/>
                </a:cubicBezTo>
                <a:cubicBezTo>
                  <a:pt x="3539" y="15685"/>
                  <a:pt x="3530" y="15693"/>
                  <a:pt x="3522" y="15701"/>
                </a:cubicBezTo>
                <a:cubicBezTo>
                  <a:pt x="3630" y="15665"/>
                  <a:pt x="3740" y="15583"/>
                  <a:pt x="3845" y="155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044880" y="5830920"/>
            <a:ext cx="411120" cy="285840"/>
          </a:xfrm>
          <a:custGeom>
            <a:avLst/>
            <a:gdLst/>
            <a:ahLst/>
            <a:rect l="l" t="t" r="r" b="b"/>
            <a:pathLst>
              <a:path w="1142" h="795">
                <a:moveTo>
                  <a:pt x="8508" y="16272"/>
                </a:moveTo>
                <a:cubicBezTo>
                  <a:pt x="8508" y="16465"/>
                  <a:pt x="8511" y="16651"/>
                  <a:pt x="8483" y="16842"/>
                </a:cubicBezTo>
                <a:cubicBezTo>
                  <a:pt x="8455" y="17031"/>
                  <a:pt x="8426" y="17025"/>
                  <a:pt x="8558" y="16818"/>
                </a:cubicBezTo>
              </a:path>
              <a:path w="1142" h="795">
                <a:moveTo>
                  <a:pt x="8905" y="16247"/>
                </a:moveTo>
                <a:cubicBezTo>
                  <a:pt x="8810" y="16439"/>
                  <a:pt x="8744" y="16599"/>
                  <a:pt x="8756" y="16818"/>
                </a:cubicBezTo>
                <a:cubicBezTo>
                  <a:pt x="8777" y="16923"/>
                  <a:pt x="8772" y="16951"/>
                  <a:pt x="8830" y="16991"/>
                </a:cubicBezTo>
                <a:cubicBezTo>
                  <a:pt x="9015" y="16899"/>
                  <a:pt x="9147" y="16730"/>
                  <a:pt x="9054" y="16495"/>
                </a:cubicBezTo>
                <a:cubicBezTo>
                  <a:pt x="9027" y="16426"/>
                  <a:pt x="8915" y="16380"/>
                  <a:pt x="8855" y="16346"/>
                </a:cubicBezTo>
              </a:path>
              <a:path w="1142" h="795">
                <a:moveTo>
                  <a:pt x="9599" y="16197"/>
                </a:moveTo>
                <a:cubicBezTo>
                  <a:pt x="9490" y="16292"/>
                  <a:pt x="9392" y="16380"/>
                  <a:pt x="9302" y="16495"/>
                </a:cubicBezTo>
                <a:cubicBezTo>
                  <a:pt x="9363" y="16607"/>
                  <a:pt x="9518" y="16653"/>
                  <a:pt x="9525" y="16793"/>
                </a:cubicBezTo>
                <a:cubicBezTo>
                  <a:pt x="9531" y="16915"/>
                  <a:pt x="9501" y="16947"/>
                  <a:pt x="9426" y="16917"/>
                </a:cubicBezTo>
                <a:cubicBezTo>
                  <a:pt x="9401" y="16697"/>
                  <a:pt x="9482" y="16556"/>
                  <a:pt x="9550" y="16346"/>
                </a:cubicBezTo>
                <a:cubicBezTo>
                  <a:pt x="9550" y="16321"/>
                  <a:pt x="9550" y="16313"/>
                  <a:pt x="9550" y="162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s – Day 2</a:t>
            </a:r>
            <a:endParaRPr b="0" lang="en-US" sz="4400" spc="-1" strike="noStrike">
              <a:solidFill>
                <a:srgbClr val="000000"/>
              </a:solidFill>
              <a:latin typeface="Arial"/>
            </a:endParaRPr>
          </a:p>
        </p:txBody>
      </p:sp>
      <p:sp>
        <p:nvSpPr>
          <p:cNvPr id="64"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name ratios, and find equivalent rat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4000"/>
            </a:br>
            <a:endParaRPr b="0" lang="en-US" sz="2000" spc="-1" strike="noStrike">
              <a:solidFill>
                <a:srgbClr val="000000"/>
              </a:solidFill>
              <a:latin typeface="Arial"/>
            </a:endParaRPr>
          </a:p>
        </p:txBody>
      </p:sp>
      <p:sp>
        <p:nvSpPr>
          <p:cNvPr id="66" name="PlaceHolder 2"/>
          <p:cNvSpPr>
            <a:spLocks noGrp="1"/>
          </p:cNvSpPr>
          <p:nvPr>
            <p:ph/>
          </p:nvPr>
        </p:nvSpPr>
        <p:spPr>
          <a:xfrm>
            <a:off x="380880" y="762120"/>
            <a:ext cx="8305920" cy="53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 produce manager at Weis is getting ready to place an order.  She knows from watching buyer’s habits that the store can predict the number of fruits they will sell by the number of apples sold.  The relationships are listed below.</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1406"/>
                </a:solidFill>
                <a:latin typeface="Arial"/>
              </a:rPr>
              <a:t>A(apples)</a:t>
            </a:r>
            <a:r>
              <a:rPr b="0" lang="en-US" sz="3200" spc="-1" strike="noStrike">
                <a:solidFill>
                  <a:srgbClr val="000000"/>
                </a:solidFill>
                <a:latin typeface="Arial"/>
              </a:rPr>
              <a:t> to </a:t>
            </a:r>
            <a:r>
              <a:rPr b="0" lang="en-US" sz="3200" spc="-1" strike="noStrike">
                <a:solidFill>
                  <a:srgbClr val="e9fa12"/>
                </a:solidFill>
                <a:latin typeface="Arial"/>
              </a:rPr>
              <a:t>B(bananas)</a:t>
            </a:r>
            <a:r>
              <a:rPr b="0" lang="en-US" sz="3200" spc="-1" strike="noStrike">
                <a:solidFill>
                  <a:srgbClr val="000000"/>
                </a:solidFill>
                <a:latin typeface="Arial"/>
              </a:rPr>
              <a:t> is 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fa12"/>
                </a:solidFill>
                <a:latin typeface="Arial"/>
              </a:rPr>
              <a:t>B(bananas)</a:t>
            </a:r>
            <a:r>
              <a:rPr b="0" lang="en-US" sz="3200" spc="-1" strike="noStrike">
                <a:solidFill>
                  <a:srgbClr val="000000"/>
                </a:solidFill>
                <a:latin typeface="Arial"/>
              </a:rPr>
              <a:t> to </a:t>
            </a:r>
            <a:r>
              <a:rPr b="0" lang="en-US" sz="3200" spc="-1" strike="noStrike">
                <a:solidFill>
                  <a:srgbClr val="e18a15"/>
                </a:solidFill>
                <a:latin typeface="Arial"/>
              </a:rPr>
              <a:t>C(cantelope)</a:t>
            </a:r>
            <a:r>
              <a:rPr b="0" lang="en-US" sz="3200" spc="-1" strike="noStrike">
                <a:solidFill>
                  <a:srgbClr val="000000"/>
                </a:solidFill>
                <a:latin typeface="Arial"/>
              </a:rPr>
              <a:t> is 15: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he is ordering 3 cases of apples, how many cases of cantelope does she need to order?</a:t>
            </a:r>
            <a:endParaRPr b="0" lang="en-US" sz="3200" spc="-1" strike="noStrike">
              <a:solidFill>
                <a:srgbClr val="000000"/>
              </a:solidFill>
              <a:latin typeface="Arial"/>
            </a:endParaRPr>
          </a:p>
        </p:txBody>
      </p:sp>
      <p:sp>
        <p:nvSpPr>
          <p:cNvPr id="67" name=""/>
          <p:cNvSpPr/>
          <p:nvPr/>
        </p:nvSpPr>
        <p:spPr>
          <a:xfrm>
            <a:off x="214200" y="3125880"/>
            <a:ext cx="152640" cy="17280"/>
          </a:xfrm>
          <a:custGeom>
            <a:avLst/>
            <a:gdLst/>
            <a:ahLst/>
            <a:rect l="l" t="t" r="r" b="b"/>
            <a:pathLst>
              <a:path w="423" h="50">
                <a:moveTo>
                  <a:pt x="595" y="8731"/>
                </a:moveTo>
                <a:cubicBezTo>
                  <a:pt x="679" y="8680"/>
                  <a:pt x="838" y="8690"/>
                  <a:pt x="943" y="8682"/>
                </a:cubicBezTo>
                <a:cubicBezTo>
                  <a:pt x="1004" y="8682"/>
                  <a:pt x="1038" y="8673"/>
                  <a:pt x="992" y="8706"/>
                </a:cubicBezTo>
                <a:cubicBezTo>
                  <a:pt x="851" y="8706"/>
                  <a:pt x="479" y="8706"/>
                  <a:pt x="620" y="8706"/>
                </a:cubicBezTo>
                <a:cubicBezTo>
                  <a:pt x="686" y="8706"/>
                  <a:pt x="918" y="8706"/>
                  <a:pt x="893" y="8706"/>
                </a:cubicBezTo>
                <a:cubicBezTo>
                  <a:pt x="826" y="8706"/>
                  <a:pt x="608" y="8731"/>
                  <a:pt x="645" y="8731"/>
                </a:cubicBezTo>
                <a:cubicBezTo>
                  <a:pt x="719" y="8731"/>
                  <a:pt x="849" y="8711"/>
                  <a:pt x="868" y="8731"/>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482760" y="3259080"/>
            <a:ext cx="258480" cy="19080"/>
          </a:xfrm>
          <a:custGeom>
            <a:avLst/>
            <a:gdLst/>
            <a:ahLst/>
            <a:rect l="l" t="t" r="r" b="b"/>
            <a:pathLst>
              <a:path w="721" h="50">
                <a:moveTo>
                  <a:pt x="1364" y="9079"/>
                </a:moveTo>
                <a:cubicBezTo>
                  <a:pt x="1443" y="9059"/>
                  <a:pt x="1519" y="9054"/>
                  <a:pt x="1612" y="9054"/>
                </a:cubicBezTo>
                <a:cubicBezTo>
                  <a:pt x="1692" y="9054"/>
                  <a:pt x="1807" y="9058"/>
                  <a:pt x="1885" y="9079"/>
                </a:cubicBezTo>
                <a:cubicBezTo>
                  <a:pt x="1926" y="9099"/>
                  <a:pt x="1932" y="9107"/>
                  <a:pt x="1960" y="9103"/>
                </a:cubicBezTo>
                <a:cubicBezTo>
                  <a:pt x="1843" y="9103"/>
                  <a:pt x="1731" y="9081"/>
                  <a:pt x="1612" y="9079"/>
                </a:cubicBezTo>
                <a:cubicBezTo>
                  <a:pt x="1513" y="9077"/>
                  <a:pt x="1265" y="9079"/>
                  <a:pt x="1364" y="9079"/>
                </a:cubicBezTo>
                <a:cubicBezTo>
                  <a:pt x="1532" y="9079"/>
                  <a:pt x="1693" y="9063"/>
                  <a:pt x="1860" y="9054"/>
                </a:cubicBezTo>
                <a:cubicBezTo>
                  <a:pt x="1925" y="9050"/>
                  <a:pt x="1993" y="9054"/>
                  <a:pt x="2059" y="9054"/>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 name=""/>
          <p:cNvSpPr/>
          <p:nvPr/>
        </p:nvSpPr>
        <p:spPr>
          <a:xfrm>
            <a:off x="177840" y="3625920"/>
            <a:ext cx="179280" cy="9360"/>
          </a:xfrm>
          <a:custGeom>
            <a:avLst/>
            <a:gdLst/>
            <a:ahLst/>
            <a:rect l="l" t="t" r="r" b="b"/>
            <a:pathLst>
              <a:path w="497" h="26">
                <a:moveTo>
                  <a:pt x="496" y="10096"/>
                </a:moveTo>
                <a:cubicBezTo>
                  <a:pt x="596" y="10096"/>
                  <a:pt x="692" y="10073"/>
                  <a:pt x="794" y="10071"/>
                </a:cubicBezTo>
                <a:cubicBezTo>
                  <a:pt x="913" y="10068"/>
                  <a:pt x="1133" y="10096"/>
                  <a:pt x="819" y="10096"/>
                </a:cubicBezTo>
                <a:cubicBezTo>
                  <a:pt x="678" y="10096"/>
                  <a:pt x="637" y="10096"/>
                  <a:pt x="546" y="10096"/>
                </a:cubicBezTo>
                <a:cubicBezTo>
                  <a:pt x="455" y="10096"/>
                  <a:pt x="628" y="10096"/>
                  <a:pt x="719" y="10096"/>
                </a:cubicBezTo>
                <a:cubicBezTo>
                  <a:pt x="851" y="10096"/>
                  <a:pt x="883" y="10089"/>
                  <a:pt x="992" y="1007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 name=""/>
          <p:cNvSpPr/>
          <p:nvPr/>
        </p:nvSpPr>
        <p:spPr>
          <a:xfrm>
            <a:off x="500040" y="3821040"/>
            <a:ext cx="187200" cy="54000"/>
          </a:xfrm>
          <a:custGeom>
            <a:avLst/>
            <a:gdLst/>
            <a:ahLst/>
            <a:rect l="l" t="t" r="r" b="b"/>
            <a:pathLst>
              <a:path w="522" h="150">
                <a:moveTo>
                  <a:pt x="1538" y="10691"/>
                </a:moveTo>
                <a:cubicBezTo>
                  <a:pt x="1647" y="10691"/>
                  <a:pt x="1782" y="10693"/>
                  <a:pt x="1885" y="10666"/>
                </a:cubicBezTo>
                <a:cubicBezTo>
                  <a:pt x="1990" y="10638"/>
                  <a:pt x="1788" y="10691"/>
                  <a:pt x="1786" y="10691"/>
                </a:cubicBezTo>
                <a:cubicBezTo>
                  <a:pt x="1645" y="10715"/>
                  <a:pt x="1603" y="10725"/>
                  <a:pt x="1513" y="10691"/>
                </a:cubicBezTo>
                <a:cubicBezTo>
                  <a:pt x="1525" y="10691"/>
                  <a:pt x="1786" y="10685"/>
                  <a:pt x="1885" y="10666"/>
                </a:cubicBezTo>
                <a:cubicBezTo>
                  <a:pt x="1976" y="10649"/>
                  <a:pt x="1704" y="10691"/>
                  <a:pt x="1612" y="10691"/>
                </a:cubicBezTo>
                <a:cubicBezTo>
                  <a:pt x="1579" y="10691"/>
                  <a:pt x="1679" y="10691"/>
                  <a:pt x="1712" y="10691"/>
                </a:cubicBezTo>
              </a:path>
              <a:path w="522" h="150">
                <a:moveTo>
                  <a:pt x="1687" y="10641"/>
                </a:moveTo>
                <a:cubicBezTo>
                  <a:pt x="1652" y="10589"/>
                  <a:pt x="1747" y="10616"/>
                  <a:pt x="1811" y="10616"/>
                </a:cubicBezTo>
                <a:cubicBezTo>
                  <a:pt x="1844" y="10616"/>
                  <a:pt x="1877" y="10616"/>
                  <a:pt x="1910" y="10616"/>
                </a:cubicBezTo>
                <a:cubicBezTo>
                  <a:pt x="1750" y="10683"/>
                  <a:pt x="1586" y="10733"/>
                  <a:pt x="1414" y="10765"/>
                </a:cubicBezTo>
                <a:cubicBezTo>
                  <a:pt x="1346" y="10778"/>
                  <a:pt x="1444" y="10765"/>
                  <a:pt x="1463" y="10765"/>
                </a:cubicBezTo>
                <a:cubicBezTo>
                  <a:pt x="1521" y="10760"/>
                  <a:pt x="1824" y="10716"/>
                  <a:pt x="1786" y="10716"/>
                </a:cubicBezTo>
                <a:cubicBezTo>
                  <a:pt x="1688" y="10716"/>
                  <a:pt x="1604" y="10735"/>
                  <a:pt x="1513" y="10765"/>
                </a:cubicBezTo>
                <a:cubicBezTo>
                  <a:pt x="1580" y="10765"/>
                  <a:pt x="1630" y="10758"/>
                  <a:pt x="1687" y="10740"/>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 name=""/>
          <p:cNvSpPr/>
          <p:nvPr/>
        </p:nvSpPr>
        <p:spPr>
          <a:xfrm>
            <a:off x="527040" y="3259080"/>
            <a:ext cx="6483240" cy="2286000"/>
          </a:xfrm>
          <a:custGeom>
            <a:avLst/>
            <a:gdLst/>
            <a:ahLst/>
            <a:rect l="l" t="t" r="r" b="b"/>
            <a:pathLst>
              <a:path w="18010" h="6351">
                <a:moveTo>
                  <a:pt x="2084" y="9054"/>
                </a:moveTo>
                <a:lnTo>
                  <a:pt x="2084" y="9054"/>
                </a:lnTo>
              </a:path>
              <a:path w="18010" h="6351">
                <a:moveTo>
                  <a:pt x="19348" y="14982"/>
                </a:moveTo>
                <a:lnTo>
                  <a:pt x="19348" y="14982"/>
                </a:lnTo>
              </a:path>
              <a:path w="18010" h="6351">
                <a:moveTo>
                  <a:pt x="19472" y="15404"/>
                </a:moveTo>
                <a:lnTo>
                  <a:pt x="19472" y="15404"/>
                </a:lnTo>
              </a:path>
              <a:path w="18010" h="6351">
                <a:moveTo>
                  <a:pt x="1637" y="9103"/>
                </a:moveTo>
                <a:lnTo>
                  <a:pt x="1637" y="9103"/>
                </a:lnTo>
              </a:path>
              <a:path w="18010" h="6351">
                <a:moveTo>
                  <a:pt x="1463" y="9153"/>
                </a:moveTo>
                <a:cubicBezTo>
                  <a:pt x="1578" y="9130"/>
                  <a:pt x="1692" y="9077"/>
                  <a:pt x="1811" y="9054"/>
                </a:cubicBezTo>
                <a:cubicBezTo>
                  <a:pt x="1819" y="9054"/>
                  <a:pt x="1828" y="9054"/>
                  <a:pt x="1836"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820960" y="3259080"/>
            <a:ext cx="260280" cy="19080"/>
          </a:xfrm>
          <a:custGeom>
            <a:avLst/>
            <a:gdLst/>
            <a:ahLst/>
            <a:rect l="l" t="t" r="r" b="b"/>
            <a:pathLst>
              <a:path w="721" h="50">
                <a:moveTo>
                  <a:pt x="7938" y="9103"/>
                </a:moveTo>
                <a:cubicBezTo>
                  <a:pt x="7956" y="9048"/>
                  <a:pt x="8139" y="9083"/>
                  <a:pt x="8186" y="9079"/>
                </a:cubicBezTo>
                <a:cubicBezTo>
                  <a:pt x="8334" y="9058"/>
                  <a:pt x="8366" y="9049"/>
                  <a:pt x="8458" y="9054"/>
                </a:cubicBezTo>
                <a:cubicBezTo>
                  <a:pt x="8326" y="9054"/>
                  <a:pt x="8196" y="9077"/>
                  <a:pt x="8062" y="9079"/>
                </a:cubicBezTo>
                <a:cubicBezTo>
                  <a:pt x="8004" y="9079"/>
                  <a:pt x="7946" y="9079"/>
                  <a:pt x="7888" y="9079"/>
                </a:cubicBezTo>
                <a:cubicBezTo>
                  <a:pt x="7764" y="9079"/>
                  <a:pt x="8037" y="9089"/>
                  <a:pt x="8161" y="9079"/>
                </a:cubicBezTo>
                <a:cubicBezTo>
                  <a:pt x="8296" y="9068"/>
                  <a:pt x="8422" y="9054"/>
                  <a:pt x="8558" y="9054"/>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 name=""/>
          <p:cNvSpPr/>
          <p:nvPr/>
        </p:nvSpPr>
        <p:spPr>
          <a:xfrm>
            <a:off x="3160800" y="3821040"/>
            <a:ext cx="233280" cy="36720"/>
          </a:xfrm>
          <a:custGeom>
            <a:avLst/>
            <a:gdLst/>
            <a:ahLst/>
            <a:rect l="l" t="t" r="r" b="b"/>
            <a:pathLst>
              <a:path w="646" h="101">
                <a:moveTo>
                  <a:pt x="8781" y="10691"/>
                </a:moveTo>
                <a:cubicBezTo>
                  <a:pt x="8976" y="10713"/>
                  <a:pt x="9153" y="10664"/>
                  <a:pt x="9351" y="10641"/>
                </a:cubicBezTo>
                <a:cubicBezTo>
                  <a:pt x="9368" y="10641"/>
                  <a:pt x="9384" y="10641"/>
                  <a:pt x="9401" y="10641"/>
                </a:cubicBezTo>
                <a:cubicBezTo>
                  <a:pt x="9256" y="10700"/>
                  <a:pt x="9089" y="10693"/>
                  <a:pt x="8930" y="10716"/>
                </a:cubicBezTo>
                <a:cubicBezTo>
                  <a:pt x="8762" y="10740"/>
                  <a:pt x="9260" y="10649"/>
                  <a:pt x="9426" y="10616"/>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 name=""/>
          <p:cNvSpPr/>
          <p:nvPr/>
        </p:nvSpPr>
        <p:spPr>
          <a:xfrm>
            <a:off x="598320" y="4589640"/>
            <a:ext cx="6939000" cy="1428480"/>
          </a:xfrm>
          <a:custGeom>
            <a:avLst/>
            <a:gdLst/>
            <a:ahLst/>
            <a:rect l="l" t="t" r="r" b="b"/>
            <a:pathLst>
              <a:path w="19274" h="3969">
                <a:moveTo>
                  <a:pt x="16793" y="12750"/>
                </a:moveTo>
                <a:lnTo>
                  <a:pt x="16793" y="12750"/>
                </a:lnTo>
              </a:path>
              <a:path w="19274" h="3969">
                <a:moveTo>
                  <a:pt x="1662" y="15776"/>
                </a:moveTo>
                <a:lnTo>
                  <a:pt x="1662" y="15776"/>
                </a:lnTo>
                <a:lnTo>
                  <a:pt x="1662" y="15776"/>
                </a:lnTo>
              </a:path>
              <a:path w="19274" h="3969">
                <a:moveTo>
                  <a:pt x="18653" y="13494"/>
                </a:moveTo>
                <a:lnTo>
                  <a:pt x="18653" y="13494"/>
                </a:lnTo>
              </a:path>
              <a:path w="19274" h="3969">
                <a:moveTo>
                  <a:pt x="20935" y="16718"/>
                </a:moveTo>
                <a:lnTo>
                  <a:pt x="20935" y="1671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83000" y="4867200"/>
            <a:ext cx="3232080" cy="71640"/>
          </a:xfrm>
          <a:custGeom>
            <a:avLst/>
            <a:gdLst/>
            <a:ahLst/>
            <a:rect l="l" t="t" r="r" b="b"/>
            <a:pathLst>
              <a:path w="8980" h="199">
                <a:moveTo>
                  <a:pt x="9674" y="13618"/>
                </a:moveTo>
                <a:cubicBezTo>
                  <a:pt x="9812" y="13624"/>
                  <a:pt x="9938" y="13636"/>
                  <a:pt x="10071" y="13643"/>
                </a:cubicBezTo>
                <a:cubicBezTo>
                  <a:pt x="10287" y="13654"/>
                  <a:pt x="10500" y="13664"/>
                  <a:pt x="10716" y="13667"/>
                </a:cubicBezTo>
                <a:cubicBezTo>
                  <a:pt x="10781" y="13668"/>
                  <a:pt x="10866" y="13690"/>
                  <a:pt x="10914" y="13692"/>
                </a:cubicBezTo>
                <a:cubicBezTo>
                  <a:pt x="11466" y="13715"/>
                  <a:pt x="12026" y="13717"/>
                  <a:pt x="12576" y="13717"/>
                </a:cubicBezTo>
                <a:cubicBezTo>
                  <a:pt x="12975" y="13717"/>
                  <a:pt x="13372" y="13706"/>
                  <a:pt x="13767" y="13692"/>
                </a:cubicBezTo>
                <a:cubicBezTo>
                  <a:pt x="13999" y="13684"/>
                  <a:pt x="14230" y="13671"/>
                  <a:pt x="14461" y="13667"/>
                </a:cubicBezTo>
                <a:cubicBezTo>
                  <a:pt x="14779" y="13662"/>
                  <a:pt x="15115" y="13634"/>
                  <a:pt x="15429" y="13643"/>
                </a:cubicBezTo>
                <a:cubicBezTo>
                  <a:pt x="15730" y="13652"/>
                  <a:pt x="16019" y="13658"/>
                  <a:pt x="16321" y="13643"/>
                </a:cubicBezTo>
                <a:cubicBezTo>
                  <a:pt x="16469" y="13636"/>
                  <a:pt x="16623" y="13624"/>
                  <a:pt x="16768" y="13618"/>
                </a:cubicBezTo>
                <a:cubicBezTo>
                  <a:pt x="17033" y="13608"/>
                  <a:pt x="17300" y="13604"/>
                  <a:pt x="17562" y="13593"/>
                </a:cubicBezTo>
                <a:cubicBezTo>
                  <a:pt x="17763" y="13584"/>
                  <a:pt x="17959" y="13571"/>
                  <a:pt x="18157" y="13543"/>
                </a:cubicBezTo>
                <a:cubicBezTo>
                  <a:pt x="18249" y="13530"/>
                  <a:pt x="18209" y="13524"/>
                  <a:pt x="18281" y="13519"/>
                </a:cubicBezTo>
                <a:cubicBezTo>
                  <a:pt x="18404" y="13510"/>
                  <a:pt x="18530" y="13519"/>
                  <a:pt x="18653" y="13519"/>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6" name=""/>
          <p:cNvSpPr/>
          <p:nvPr/>
        </p:nvSpPr>
        <p:spPr>
          <a:xfrm>
            <a:off x="6215040" y="4724280"/>
            <a:ext cx="1027080" cy="1490760"/>
          </a:xfrm>
          <a:custGeom>
            <a:avLst/>
            <a:gdLst/>
            <a:ahLst/>
            <a:rect l="l" t="t" r="r" b="b"/>
            <a:pathLst>
              <a:path w="2854" h="4143">
                <a:moveTo>
                  <a:pt x="18430" y="15255"/>
                </a:moveTo>
                <a:cubicBezTo>
                  <a:pt x="18438" y="15247"/>
                  <a:pt x="18447" y="15238"/>
                  <a:pt x="18455" y="15230"/>
                </a:cubicBezTo>
              </a:path>
              <a:path w="2854" h="4143">
                <a:moveTo>
                  <a:pt x="18455" y="15230"/>
                </a:moveTo>
                <a:lnTo>
                  <a:pt x="18455" y="15230"/>
                </a:lnTo>
              </a:path>
              <a:path w="2854" h="4143">
                <a:moveTo>
                  <a:pt x="18852" y="16321"/>
                </a:moveTo>
                <a:cubicBezTo>
                  <a:pt x="18884" y="16321"/>
                  <a:pt x="18892" y="16313"/>
                  <a:pt x="18876" y="16272"/>
                </a:cubicBezTo>
              </a:path>
              <a:path w="2854" h="4143">
                <a:moveTo>
                  <a:pt x="18876" y="16222"/>
                </a:moveTo>
                <a:lnTo>
                  <a:pt x="18876" y="16222"/>
                </a:lnTo>
              </a:path>
              <a:path w="2854" h="4143">
                <a:moveTo>
                  <a:pt x="19794" y="16123"/>
                </a:moveTo>
                <a:cubicBezTo>
                  <a:pt x="19902" y="16085"/>
                  <a:pt x="20004" y="16040"/>
                  <a:pt x="20117" y="16024"/>
                </a:cubicBezTo>
              </a:path>
              <a:path w="2854" h="4143">
                <a:moveTo>
                  <a:pt x="19447" y="16669"/>
                </a:moveTo>
                <a:cubicBezTo>
                  <a:pt x="19422" y="16669"/>
                  <a:pt x="19414" y="16669"/>
                  <a:pt x="19422" y="16694"/>
                </a:cubicBezTo>
              </a:path>
              <a:path w="2854" h="4143">
                <a:moveTo>
                  <a:pt x="19348" y="17264"/>
                </a:moveTo>
                <a:lnTo>
                  <a:pt x="19348" y="17264"/>
                </a:lnTo>
              </a:path>
              <a:path w="2854" h="4143">
                <a:moveTo>
                  <a:pt x="17264" y="13122"/>
                </a:moveTo>
                <a:cubicBezTo>
                  <a:pt x="17292" y="13122"/>
                  <a:pt x="17298" y="13124"/>
                  <a:pt x="17264"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45160" y="3446640"/>
            <a:ext cx="411120" cy="285480"/>
          </a:xfrm>
          <a:custGeom>
            <a:avLst/>
            <a:gdLst/>
            <a:ahLst/>
            <a:rect l="l" t="t" r="r" b="b"/>
            <a:pathLst>
              <a:path w="1142" h="794">
                <a:moveTo>
                  <a:pt x="18479" y="9723"/>
                </a:moveTo>
                <a:cubicBezTo>
                  <a:pt x="18497" y="9713"/>
                  <a:pt x="18597" y="9639"/>
                  <a:pt x="18554" y="9674"/>
                </a:cubicBezTo>
                <a:cubicBezTo>
                  <a:pt x="18479" y="9748"/>
                  <a:pt x="18437" y="9789"/>
                  <a:pt x="18380" y="9847"/>
                </a:cubicBezTo>
                <a:cubicBezTo>
                  <a:pt x="18187" y="9994"/>
                  <a:pt x="18518" y="9767"/>
                  <a:pt x="18554" y="9723"/>
                </a:cubicBezTo>
                <a:cubicBezTo>
                  <a:pt x="18666" y="9586"/>
                  <a:pt x="18365" y="9815"/>
                  <a:pt x="18355" y="9823"/>
                </a:cubicBezTo>
                <a:cubicBezTo>
                  <a:pt x="18315" y="9855"/>
                  <a:pt x="18553" y="9704"/>
                  <a:pt x="18604" y="9624"/>
                </a:cubicBezTo>
                <a:cubicBezTo>
                  <a:pt x="18596" y="9624"/>
                  <a:pt x="18587" y="9624"/>
                  <a:pt x="18579" y="9624"/>
                </a:cubicBezTo>
                <a:cubicBezTo>
                  <a:pt x="18482" y="9736"/>
                  <a:pt x="18261" y="9985"/>
                  <a:pt x="18380" y="9897"/>
                </a:cubicBezTo>
                <a:cubicBezTo>
                  <a:pt x="18451" y="9844"/>
                  <a:pt x="18853" y="9489"/>
                  <a:pt x="18504" y="9798"/>
                </a:cubicBezTo>
                <a:cubicBezTo>
                  <a:pt x="18304" y="9975"/>
                  <a:pt x="18228" y="10095"/>
                  <a:pt x="18455" y="9847"/>
                </a:cubicBezTo>
                <a:cubicBezTo>
                  <a:pt x="18779" y="9494"/>
                  <a:pt x="18335" y="9796"/>
                  <a:pt x="18306" y="9847"/>
                </a:cubicBezTo>
                <a:cubicBezTo>
                  <a:pt x="18297" y="9863"/>
                  <a:pt x="18495" y="9646"/>
                  <a:pt x="18455" y="9674"/>
                </a:cubicBezTo>
                <a:cubicBezTo>
                  <a:pt x="18371" y="9732"/>
                  <a:pt x="18284" y="9805"/>
                  <a:pt x="18207" y="9872"/>
                </a:cubicBezTo>
                <a:cubicBezTo>
                  <a:pt x="18300" y="9826"/>
                  <a:pt x="18563" y="9580"/>
                  <a:pt x="18430" y="9723"/>
                </a:cubicBezTo>
                <a:cubicBezTo>
                  <a:pt x="18374" y="9783"/>
                  <a:pt x="18101" y="10123"/>
                  <a:pt x="18430" y="9922"/>
                </a:cubicBezTo>
                <a:cubicBezTo>
                  <a:pt x="18734" y="9736"/>
                  <a:pt x="18560" y="9797"/>
                  <a:pt x="18405" y="9996"/>
                </a:cubicBezTo>
                <a:cubicBezTo>
                  <a:pt x="18243" y="10205"/>
                  <a:pt x="18545" y="9908"/>
                  <a:pt x="18579" y="9897"/>
                </a:cubicBezTo>
                <a:cubicBezTo>
                  <a:pt x="18720" y="9852"/>
                  <a:pt x="18221" y="10307"/>
                  <a:pt x="18355" y="10244"/>
                </a:cubicBezTo>
                <a:cubicBezTo>
                  <a:pt x="18521" y="10166"/>
                  <a:pt x="18657" y="9901"/>
                  <a:pt x="18405" y="10220"/>
                </a:cubicBezTo>
                <a:cubicBezTo>
                  <a:pt x="18298" y="10355"/>
                  <a:pt x="18589" y="10094"/>
                  <a:pt x="18653" y="10071"/>
                </a:cubicBezTo>
                <a:cubicBezTo>
                  <a:pt x="18612" y="10151"/>
                  <a:pt x="18582" y="10194"/>
                  <a:pt x="18529" y="10244"/>
                </a:cubicBezTo>
                <a:cubicBezTo>
                  <a:pt x="18335" y="10439"/>
                  <a:pt x="18423" y="10329"/>
                  <a:pt x="18554" y="10220"/>
                </a:cubicBezTo>
                <a:cubicBezTo>
                  <a:pt x="18836" y="9986"/>
                  <a:pt x="18612" y="10236"/>
                  <a:pt x="18529" y="10319"/>
                </a:cubicBezTo>
                <a:cubicBezTo>
                  <a:pt x="18358" y="10490"/>
                  <a:pt x="18643" y="10172"/>
                  <a:pt x="18678" y="10145"/>
                </a:cubicBezTo>
                <a:cubicBezTo>
                  <a:pt x="18726" y="10109"/>
                  <a:pt x="18579" y="10383"/>
                  <a:pt x="18579" y="10344"/>
                </a:cubicBezTo>
                <a:cubicBezTo>
                  <a:pt x="18587" y="10327"/>
                  <a:pt x="18596" y="10311"/>
                  <a:pt x="18604" y="10294"/>
                </a:cubicBezTo>
              </a:path>
              <a:path w="1142" h="794">
                <a:moveTo>
                  <a:pt x="19323" y="9847"/>
                </a:moveTo>
                <a:cubicBezTo>
                  <a:pt x="19305" y="9761"/>
                  <a:pt x="19311" y="9670"/>
                  <a:pt x="19248" y="9599"/>
                </a:cubicBezTo>
                <a:cubicBezTo>
                  <a:pt x="19189" y="9532"/>
                  <a:pt x="19018" y="9588"/>
                  <a:pt x="18976" y="9649"/>
                </a:cubicBezTo>
                <a:cubicBezTo>
                  <a:pt x="18915" y="9738"/>
                  <a:pt x="18811" y="9939"/>
                  <a:pt x="18926" y="10021"/>
                </a:cubicBezTo>
                <a:cubicBezTo>
                  <a:pt x="19070" y="10125"/>
                  <a:pt x="19243" y="9933"/>
                  <a:pt x="19298" y="9823"/>
                </a:cubicBezTo>
                <a:cubicBezTo>
                  <a:pt x="19319" y="9740"/>
                  <a:pt x="19327" y="9725"/>
                  <a:pt x="19323" y="9674"/>
                </a:cubicBezTo>
                <a:cubicBezTo>
                  <a:pt x="19275" y="9899"/>
                  <a:pt x="19309" y="10122"/>
                  <a:pt x="19273" y="10344"/>
                </a:cubicBezTo>
                <a:cubicBezTo>
                  <a:pt x="19250" y="10366"/>
                  <a:pt x="19239" y="10374"/>
                  <a:pt x="19273" y="10368"/>
                </a:cubicBezTo>
              </a:path>
              <a:path w="1142" h="794">
                <a:moveTo>
                  <a:pt x="18405" y="9748"/>
                </a:moveTo>
                <a:cubicBezTo>
                  <a:pt x="18355" y="9798"/>
                  <a:pt x="18306" y="9847"/>
                  <a:pt x="18256" y="9897"/>
                </a:cubicBezTo>
                <a:cubicBezTo>
                  <a:pt x="18373" y="9874"/>
                  <a:pt x="18409" y="9758"/>
                  <a:pt x="18504" y="9699"/>
                </a:cubicBezTo>
                <a:cubicBezTo>
                  <a:pt x="18605" y="9636"/>
                  <a:pt x="18359" y="9881"/>
                  <a:pt x="18281" y="9971"/>
                </a:cubicBezTo>
                <a:cubicBezTo>
                  <a:pt x="18205" y="10060"/>
                  <a:pt x="18547" y="9731"/>
                  <a:pt x="18529" y="9847"/>
                </a:cubicBezTo>
                <a:cubicBezTo>
                  <a:pt x="18512" y="9958"/>
                  <a:pt x="18302" y="10087"/>
                  <a:pt x="18231" y="10170"/>
                </a:cubicBezTo>
                <a:cubicBezTo>
                  <a:pt x="18314" y="10149"/>
                  <a:pt x="18459" y="10076"/>
                  <a:pt x="18504" y="9996"/>
                </a:cubicBezTo>
                <a:cubicBezTo>
                  <a:pt x="18517" y="9974"/>
                  <a:pt x="18163" y="10316"/>
                  <a:pt x="18182" y="10319"/>
                </a:cubicBezTo>
                <a:cubicBezTo>
                  <a:pt x="18293" y="10244"/>
                  <a:pt x="18357" y="10208"/>
                  <a:pt x="18455" y="10170"/>
                </a:cubicBezTo>
                <a:cubicBezTo>
                  <a:pt x="18547" y="10097"/>
                  <a:pt x="18559" y="10093"/>
                  <a:pt x="18604" y="10046"/>
                </a:cubicBezTo>
                <a:cubicBezTo>
                  <a:pt x="18489" y="10114"/>
                  <a:pt x="18221" y="10344"/>
                  <a:pt x="18331" y="10269"/>
                </a:cubicBezTo>
                <a:cubicBezTo>
                  <a:pt x="18333" y="10267"/>
                  <a:pt x="18665" y="10020"/>
                  <a:pt x="18504" y="10170"/>
                </a:cubicBezTo>
                <a:cubicBezTo>
                  <a:pt x="18394" y="10273"/>
                  <a:pt x="18202" y="10427"/>
                  <a:pt x="18479" y="10244"/>
                </a:cubicBezTo>
                <a:cubicBezTo>
                  <a:pt x="18634" y="10148"/>
                  <a:pt x="18650" y="10122"/>
                  <a:pt x="18752" y="10096"/>
                </a:cubicBezTo>
                <a:cubicBezTo>
                  <a:pt x="18691" y="10157"/>
                  <a:pt x="18447" y="10346"/>
                  <a:pt x="18479" y="10319"/>
                </a:cubicBezTo>
                <a:cubicBezTo>
                  <a:pt x="18682" y="10149"/>
                  <a:pt x="18572" y="10226"/>
                  <a:pt x="18554" y="10344"/>
                </a:cubicBezTo>
                <a:cubicBezTo>
                  <a:pt x="18551" y="10363"/>
                  <a:pt x="18675" y="10247"/>
                  <a:pt x="18678" y="102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081840" y="5357880"/>
            <a:ext cx="1652400" cy="938160"/>
          </a:xfrm>
          <a:custGeom>
            <a:avLst/>
            <a:gdLst/>
            <a:ahLst/>
            <a:rect l="l" t="t" r="r" b="b"/>
            <a:pathLst>
              <a:path w="4590" h="2605">
                <a:moveTo>
                  <a:pt x="18455" y="15205"/>
                </a:moveTo>
                <a:cubicBezTo>
                  <a:pt x="18455" y="15346"/>
                  <a:pt x="18477" y="15485"/>
                  <a:pt x="18479" y="15627"/>
                </a:cubicBezTo>
                <a:cubicBezTo>
                  <a:pt x="18479" y="15718"/>
                  <a:pt x="18479" y="15726"/>
                  <a:pt x="18479" y="15776"/>
                </a:cubicBezTo>
              </a:path>
              <a:path w="4590" h="2605">
                <a:moveTo>
                  <a:pt x="19050" y="15131"/>
                </a:moveTo>
                <a:cubicBezTo>
                  <a:pt x="19002" y="15117"/>
                  <a:pt x="18848" y="15104"/>
                  <a:pt x="18802" y="15156"/>
                </a:cubicBezTo>
                <a:cubicBezTo>
                  <a:pt x="18769" y="15193"/>
                  <a:pt x="18762" y="15322"/>
                  <a:pt x="18752" y="15379"/>
                </a:cubicBezTo>
                <a:cubicBezTo>
                  <a:pt x="18852" y="15379"/>
                  <a:pt x="18949" y="15331"/>
                  <a:pt x="19050" y="15354"/>
                </a:cubicBezTo>
                <a:cubicBezTo>
                  <a:pt x="19233" y="15397"/>
                  <a:pt x="19203" y="15657"/>
                  <a:pt x="19050" y="15726"/>
                </a:cubicBezTo>
                <a:cubicBezTo>
                  <a:pt x="18933" y="15726"/>
                  <a:pt x="18899" y="15728"/>
                  <a:pt x="18827" y="15701"/>
                </a:cubicBezTo>
              </a:path>
              <a:path w="4590" h="2605">
                <a:moveTo>
                  <a:pt x="18182" y="16024"/>
                </a:moveTo>
                <a:cubicBezTo>
                  <a:pt x="18540" y="15960"/>
                  <a:pt x="18885" y="15925"/>
                  <a:pt x="19248" y="15925"/>
                </a:cubicBezTo>
                <a:cubicBezTo>
                  <a:pt x="19256" y="15925"/>
                  <a:pt x="19265" y="15925"/>
                  <a:pt x="19273" y="15925"/>
                </a:cubicBezTo>
              </a:path>
              <a:path w="4590" h="2605">
                <a:moveTo>
                  <a:pt x="18802" y="16197"/>
                </a:moveTo>
                <a:cubicBezTo>
                  <a:pt x="18603" y="16259"/>
                  <a:pt x="18561" y="16341"/>
                  <a:pt x="18628" y="16545"/>
                </a:cubicBezTo>
                <a:cubicBezTo>
                  <a:pt x="18801" y="16484"/>
                  <a:pt x="18877" y="16466"/>
                  <a:pt x="18926" y="16272"/>
                </a:cubicBezTo>
                <a:cubicBezTo>
                  <a:pt x="18926" y="16504"/>
                  <a:pt x="18926" y="17149"/>
                  <a:pt x="18926" y="16917"/>
                </a:cubicBezTo>
              </a:path>
              <a:path w="4590" h="2605">
                <a:moveTo>
                  <a:pt x="18802" y="16197"/>
                </a:moveTo>
                <a:cubicBezTo>
                  <a:pt x="18756" y="16197"/>
                  <a:pt x="18721" y="16185"/>
                  <a:pt x="18678" y="16173"/>
                </a:cubicBezTo>
                <a:cubicBezTo>
                  <a:pt x="18603" y="16152"/>
                  <a:pt x="18473" y="16116"/>
                  <a:pt x="18430" y="16222"/>
                </a:cubicBezTo>
                <a:cubicBezTo>
                  <a:pt x="18321" y="16492"/>
                  <a:pt x="19319" y="16774"/>
                  <a:pt x="17859" y="16073"/>
                </a:cubicBezTo>
              </a:path>
              <a:path w="4590" h="2605">
                <a:moveTo>
                  <a:pt x="16892" y="15553"/>
                </a:moveTo>
                <a:cubicBezTo>
                  <a:pt x="16903" y="15660"/>
                  <a:pt x="16935" y="15759"/>
                  <a:pt x="16942" y="15875"/>
                </a:cubicBezTo>
                <a:cubicBezTo>
                  <a:pt x="16942" y="15967"/>
                  <a:pt x="16929" y="15792"/>
                  <a:pt x="16917" y="15701"/>
                </a:cubicBezTo>
                <a:cubicBezTo>
                  <a:pt x="16889" y="15485"/>
                  <a:pt x="16896" y="15443"/>
                  <a:pt x="17016" y="15280"/>
                </a:cubicBezTo>
                <a:cubicBezTo>
                  <a:pt x="17104" y="15367"/>
                  <a:pt x="17114" y="15441"/>
                  <a:pt x="17041" y="15553"/>
                </a:cubicBezTo>
                <a:cubicBezTo>
                  <a:pt x="17033" y="15561"/>
                  <a:pt x="17024" y="15569"/>
                  <a:pt x="17016" y="15577"/>
                </a:cubicBezTo>
                <a:cubicBezTo>
                  <a:pt x="17137" y="15542"/>
                  <a:pt x="17290" y="15549"/>
                  <a:pt x="17214" y="15726"/>
                </a:cubicBezTo>
                <a:cubicBezTo>
                  <a:pt x="17159" y="15855"/>
                  <a:pt x="17081" y="15841"/>
                  <a:pt x="16966" y="15850"/>
                </a:cubicBezTo>
              </a:path>
              <a:path w="4590" h="2605">
                <a:moveTo>
                  <a:pt x="17165" y="16396"/>
                </a:moveTo>
                <a:cubicBezTo>
                  <a:pt x="17177" y="16432"/>
                  <a:pt x="17178" y="16432"/>
                  <a:pt x="17190" y="16396"/>
                </a:cubicBezTo>
                <a:cubicBezTo>
                  <a:pt x="17123" y="16275"/>
                  <a:pt x="17048" y="16316"/>
                  <a:pt x="16991" y="16470"/>
                </a:cubicBezTo>
                <a:cubicBezTo>
                  <a:pt x="16901" y="16712"/>
                  <a:pt x="16924" y="16924"/>
                  <a:pt x="17214" y="16818"/>
                </a:cubicBezTo>
                <a:cubicBezTo>
                  <a:pt x="17324" y="16763"/>
                  <a:pt x="17343" y="16769"/>
                  <a:pt x="17388" y="16718"/>
                </a:cubicBezTo>
              </a:path>
              <a:path w="4590" h="2605">
                <a:moveTo>
                  <a:pt x="17413" y="15652"/>
                </a:moveTo>
                <a:cubicBezTo>
                  <a:pt x="17539" y="15652"/>
                  <a:pt x="17658" y="15631"/>
                  <a:pt x="17785" y="15627"/>
                </a:cubicBezTo>
                <a:cubicBezTo>
                  <a:pt x="17826" y="15627"/>
                  <a:pt x="17834" y="15627"/>
                  <a:pt x="17859" y="15627"/>
                </a:cubicBezTo>
              </a:path>
              <a:path w="4590" h="2605">
                <a:moveTo>
                  <a:pt x="17537" y="16495"/>
                </a:moveTo>
                <a:cubicBezTo>
                  <a:pt x="17611" y="16495"/>
                  <a:pt x="17686" y="16495"/>
                  <a:pt x="17760" y="16495"/>
                </a:cubicBezTo>
              </a:path>
              <a:path w="4590" h="2605">
                <a:moveTo>
                  <a:pt x="18777" y="16297"/>
                </a:moveTo>
                <a:cubicBezTo>
                  <a:pt x="18828" y="16229"/>
                  <a:pt x="18800" y="16249"/>
                  <a:pt x="18752" y="16222"/>
                </a:cubicBezTo>
                <a:cubicBezTo>
                  <a:pt x="18702" y="16194"/>
                  <a:pt x="18654" y="16177"/>
                  <a:pt x="18604" y="16222"/>
                </a:cubicBezTo>
                <a:cubicBezTo>
                  <a:pt x="18540" y="16280"/>
                  <a:pt x="18474" y="16383"/>
                  <a:pt x="18529" y="16470"/>
                </a:cubicBezTo>
                <a:cubicBezTo>
                  <a:pt x="18591" y="16568"/>
                  <a:pt x="18734" y="16563"/>
                  <a:pt x="18827" y="16520"/>
                </a:cubicBezTo>
                <a:cubicBezTo>
                  <a:pt x="18937" y="16469"/>
                  <a:pt x="18951" y="16376"/>
                  <a:pt x="18901" y="16272"/>
                </a:cubicBezTo>
                <a:cubicBezTo>
                  <a:pt x="18833" y="16129"/>
                  <a:pt x="18715" y="16121"/>
                  <a:pt x="18579" y="16148"/>
                </a:cubicBezTo>
                <a:cubicBezTo>
                  <a:pt x="18445" y="16174"/>
                  <a:pt x="18390" y="16238"/>
                  <a:pt x="18380" y="16371"/>
                </a:cubicBezTo>
                <a:cubicBezTo>
                  <a:pt x="18380" y="16396"/>
                  <a:pt x="18380" y="16421"/>
                  <a:pt x="18380" y="16446"/>
                </a:cubicBezTo>
                <a:cubicBezTo>
                  <a:pt x="18513" y="16489"/>
                  <a:pt x="18620" y="16474"/>
                  <a:pt x="18752" y="16421"/>
                </a:cubicBezTo>
                <a:cubicBezTo>
                  <a:pt x="18842" y="16385"/>
                  <a:pt x="18976" y="16258"/>
                  <a:pt x="18976" y="16148"/>
                </a:cubicBezTo>
                <a:cubicBezTo>
                  <a:pt x="18968" y="16140"/>
                  <a:pt x="18959" y="16131"/>
                  <a:pt x="18951" y="16123"/>
                </a:cubicBezTo>
                <a:cubicBezTo>
                  <a:pt x="18929" y="16234"/>
                  <a:pt x="18913" y="16351"/>
                  <a:pt x="18926" y="16470"/>
                </a:cubicBezTo>
                <a:cubicBezTo>
                  <a:pt x="18936" y="16558"/>
                  <a:pt x="18952" y="16715"/>
                  <a:pt x="19000" y="16793"/>
                </a:cubicBezTo>
                <a:cubicBezTo>
                  <a:pt x="19020" y="16826"/>
                  <a:pt x="19008" y="16893"/>
                  <a:pt x="19025" y="16917"/>
                </a:cubicBezTo>
                <a:cubicBezTo>
                  <a:pt x="19033" y="16917"/>
                  <a:pt x="19042" y="16917"/>
                  <a:pt x="19050" y="16917"/>
                </a:cubicBezTo>
              </a:path>
              <a:path w="4590" h="2605">
                <a:moveTo>
                  <a:pt x="19645" y="15974"/>
                </a:moveTo>
                <a:cubicBezTo>
                  <a:pt x="19751" y="15948"/>
                  <a:pt x="19862" y="15902"/>
                  <a:pt x="19968" y="15875"/>
                </a:cubicBezTo>
                <a:cubicBezTo>
                  <a:pt x="19993" y="15875"/>
                  <a:pt x="20001" y="15875"/>
                  <a:pt x="19993" y="15900"/>
                </a:cubicBezTo>
              </a:path>
              <a:path w="4590" h="2605">
                <a:moveTo>
                  <a:pt x="21010" y="15230"/>
                </a:moveTo>
                <a:cubicBezTo>
                  <a:pt x="21028" y="15171"/>
                  <a:pt x="20908" y="15246"/>
                  <a:pt x="20836" y="15255"/>
                </a:cubicBezTo>
                <a:cubicBezTo>
                  <a:pt x="20811" y="15255"/>
                  <a:pt x="20787" y="15255"/>
                  <a:pt x="20762" y="15255"/>
                </a:cubicBezTo>
                <a:cubicBezTo>
                  <a:pt x="20749" y="15349"/>
                  <a:pt x="20737" y="15432"/>
                  <a:pt x="20737" y="15528"/>
                </a:cubicBezTo>
                <a:cubicBezTo>
                  <a:pt x="20793" y="15528"/>
                  <a:pt x="20810" y="15505"/>
                  <a:pt x="20861" y="15478"/>
                </a:cubicBezTo>
                <a:cubicBezTo>
                  <a:pt x="20933" y="15439"/>
                  <a:pt x="20989" y="15445"/>
                  <a:pt x="21059" y="15478"/>
                </a:cubicBezTo>
                <a:cubicBezTo>
                  <a:pt x="21109" y="15502"/>
                  <a:pt x="21198" y="15639"/>
                  <a:pt x="21158" y="15701"/>
                </a:cubicBezTo>
                <a:cubicBezTo>
                  <a:pt x="21096" y="15799"/>
                  <a:pt x="20980" y="15838"/>
                  <a:pt x="20861" y="15825"/>
                </a:cubicBezTo>
                <a:cubicBezTo>
                  <a:pt x="20789" y="15817"/>
                  <a:pt x="20751" y="15818"/>
                  <a:pt x="20737" y="15776"/>
                </a:cubicBezTo>
              </a:path>
              <a:path w="4590" h="2605">
                <a:moveTo>
                  <a:pt x="20389" y="16123"/>
                </a:moveTo>
                <a:cubicBezTo>
                  <a:pt x="20417" y="16039"/>
                  <a:pt x="20660" y="16046"/>
                  <a:pt x="20737" y="16024"/>
                </a:cubicBezTo>
                <a:cubicBezTo>
                  <a:pt x="20971" y="15959"/>
                  <a:pt x="21187" y="15912"/>
                  <a:pt x="21431" y="15900"/>
                </a:cubicBezTo>
                <a:cubicBezTo>
                  <a:pt x="21456" y="15900"/>
                  <a:pt x="21464" y="15900"/>
                  <a:pt x="21481" y="15900"/>
                </a:cubicBezTo>
              </a:path>
              <a:path w="4590" h="2605">
                <a:moveTo>
                  <a:pt x="20762" y="16272"/>
                </a:moveTo>
                <a:cubicBezTo>
                  <a:pt x="20812" y="16266"/>
                  <a:pt x="20900" y="16215"/>
                  <a:pt x="20935" y="16272"/>
                </a:cubicBezTo>
                <a:cubicBezTo>
                  <a:pt x="20961" y="16314"/>
                  <a:pt x="20923" y="16421"/>
                  <a:pt x="20886" y="16446"/>
                </a:cubicBezTo>
                <a:cubicBezTo>
                  <a:pt x="20861" y="16446"/>
                  <a:pt x="20853" y="16446"/>
                  <a:pt x="20861" y="16470"/>
                </a:cubicBezTo>
              </a:path>
              <a:path w="4590" h="2605">
                <a:moveTo>
                  <a:pt x="19224" y="15205"/>
                </a:moveTo>
                <a:cubicBezTo>
                  <a:pt x="19245" y="15139"/>
                  <a:pt x="19360" y="15171"/>
                  <a:pt x="19422" y="15156"/>
                </a:cubicBezTo>
                <a:cubicBezTo>
                  <a:pt x="19439" y="15148"/>
                  <a:pt x="19455" y="15139"/>
                  <a:pt x="19472" y="15131"/>
                </a:cubicBezTo>
              </a:path>
              <a:path w="4590" h="2605">
                <a:moveTo>
                  <a:pt x="19720" y="15007"/>
                </a:moveTo>
                <a:cubicBezTo>
                  <a:pt x="19760" y="14901"/>
                  <a:pt x="19824" y="14895"/>
                  <a:pt x="19943" y="14883"/>
                </a:cubicBezTo>
                <a:cubicBezTo>
                  <a:pt x="19932" y="14978"/>
                  <a:pt x="19911" y="15014"/>
                  <a:pt x="19844" y="15081"/>
                </a:cubicBezTo>
                <a:cubicBezTo>
                  <a:pt x="19869" y="15062"/>
                  <a:pt x="19951" y="15020"/>
                  <a:pt x="19968" y="15081"/>
                </a:cubicBezTo>
                <a:cubicBezTo>
                  <a:pt x="19989" y="15156"/>
                  <a:pt x="19941" y="15240"/>
                  <a:pt x="19869" y="15255"/>
                </a:cubicBezTo>
                <a:cubicBezTo>
                  <a:pt x="19861" y="15255"/>
                  <a:pt x="19852" y="15255"/>
                  <a:pt x="19844" y="15255"/>
                </a:cubicBezTo>
              </a:path>
              <a:path w="4590" h="2605">
                <a:moveTo>
                  <a:pt x="19273" y="16917"/>
                </a:moveTo>
                <a:cubicBezTo>
                  <a:pt x="19281" y="16909"/>
                  <a:pt x="19290" y="16900"/>
                  <a:pt x="19298" y="16892"/>
                </a:cubicBezTo>
                <a:cubicBezTo>
                  <a:pt x="19373" y="16935"/>
                  <a:pt x="19433" y="16942"/>
                  <a:pt x="19521" y="16942"/>
                </a:cubicBezTo>
                <a:cubicBezTo>
                  <a:pt x="19529" y="16942"/>
                  <a:pt x="19538" y="16942"/>
                  <a:pt x="19546" y="16942"/>
                </a:cubicBezTo>
              </a:path>
              <a:path w="4590" h="2605">
                <a:moveTo>
                  <a:pt x="19695" y="16991"/>
                </a:moveTo>
                <a:cubicBezTo>
                  <a:pt x="19754" y="16991"/>
                  <a:pt x="19780" y="16988"/>
                  <a:pt x="19819" y="16966"/>
                </a:cubicBezTo>
                <a:cubicBezTo>
                  <a:pt x="19890" y="17089"/>
                  <a:pt x="19887" y="17105"/>
                  <a:pt x="19794" y="17190"/>
                </a:cubicBezTo>
                <a:cubicBezTo>
                  <a:pt x="19786" y="17198"/>
                  <a:pt x="19777" y="17206"/>
                  <a:pt x="19769" y="17214"/>
                </a:cubicBezTo>
                <a:cubicBezTo>
                  <a:pt x="19784" y="17170"/>
                  <a:pt x="19865" y="17147"/>
                  <a:pt x="19918" y="17190"/>
                </a:cubicBezTo>
                <a:cubicBezTo>
                  <a:pt x="20021" y="17273"/>
                  <a:pt x="19960" y="17404"/>
                  <a:pt x="19869" y="17462"/>
                </a:cubicBezTo>
                <a:cubicBezTo>
                  <a:pt x="19747" y="17540"/>
                  <a:pt x="19732" y="17471"/>
                  <a:pt x="19670" y="17388"/>
                </a:cubicBezTo>
              </a:path>
              <a:path w="4590" h="2605">
                <a:moveTo>
                  <a:pt x="20712" y="16421"/>
                </a:moveTo>
                <a:cubicBezTo>
                  <a:pt x="20742" y="16361"/>
                  <a:pt x="20836" y="16318"/>
                  <a:pt x="20910" y="16297"/>
                </a:cubicBezTo>
                <a:cubicBezTo>
                  <a:pt x="20939" y="16289"/>
                  <a:pt x="21021" y="16306"/>
                  <a:pt x="21034" y="16321"/>
                </a:cubicBezTo>
                <a:cubicBezTo>
                  <a:pt x="21084" y="16376"/>
                  <a:pt x="21068" y="16458"/>
                  <a:pt x="21010" y="16495"/>
                </a:cubicBezTo>
                <a:cubicBezTo>
                  <a:pt x="20971" y="16520"/>
                  <a:pt x="20912" y="16560"/>
                  <a:pt x="20861" y="16570"/>
                </a:cubicBezTo>
                <a:cubicBezTo>
                  <a:pt x="20816" y="16570"/>
                  <a:pt x="20803" y="16566"/>
                  <a:pt x="20786" y="16594"/>
                </a:cubicBezTo>
                <a:cubicBezTo>
                  <a:pt x="20841" y="16581"/>
                  <a:pt x="20900" y="16554"/>
                  <a:pt x="20960" y="16545"/>
                </a:cubicBezTo>
                <a:cubicBezTo>
                  <a:pt x="21021" y="16535"/>
                  <a:pt x="21093" y="16542"/>
                  <a:pt x="21134" y="16594"/>
                </a:cubicBezTo>
                <a:cubicBezTo>
                  <a:pt x="21204" y="16684"/>
                  <a:pt x="21246" y="16766"/>
                  <a:pt x="21158" y="16867"/>
                </a:cubicBezTo>
                <a:cubicBezTo>
                  <a:pt x="21093" y="16942"/>
                  <a:pt x="20998" y="16942"/>
                  <a:pt x="20910" y="16942"/>
                </a:cubicBezTo>
                <a:cubicBezTo>
                  <a:pt x="20886" y="16942"/>
                  <a:pt x="20878" y="16942"/>
                  <a:pt x="20886"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84280" y="5438880"/>
            <a:ext cx="187560" cy="320400"/>
          </a:xfrm>
          <a:custGeom>
            <a:avLst/>
            <a:gdLst/>
            <a:ahLst/>
            <a:rect l="l" t="t" r="r" b="b"/>
            <a:pathLst>
              <a:path w="522" h="894">
                <a:moveTo>
                  <a:pt x="6697" y="15379"/>
                </a:moveTo>
                <a:cubicBezTo>
                  <a:pt x="6697" y="15280"/>
                  <a:pt x="6697" y="15478"/>
                  <a:pt x="6697" y="15577"/>
                </a:cubicBezTo>
                <a:cubicBezTo>
                  <a:pt x="6697" y="15730"/>
                  <a:pt x="6714" y="16112"/>
                  <a:pt x="6648" y="15974"/>
                </a:cubicBezTo>
                <a:cubicBezTo>
                  <a:pt x="6648" y="15966"/>
                  <a:pt x="6648" y="15957"/>
                  <a:pt x="6648" y="15949"/>
                </a:cubicBezTo>
                <a:cubicBezTo>
                  <a:pt x="6630" y="15715"/>
                  <a:pt x="6638" y="15474"/>
                  <a:pt x="6747" y="15255"/>
                </a:cubicBezTo>
                <a:cubicBezTo>
                  <a:pt x="6814" y="15165"/>
                  <a:pt x="6830" y="15138"/>
                  <a:pt x="6896" y="15106"/>
                </a:cubicBezTo>
                <a:cubicBezTo>
                  <a:pt x="7088" y="15209"/>
                  <a:pt x="7126" y="15372"/>
                  <a:pt x="7144" y="15602"/>
                </a:cubicBezTo>
                <a:cubicBezTo>
                  <a:pt x="7149" y="15667"/>
                  <a:pt x="7121" y="15993"/>
                  <a:pt x="7119" y="15974"/>
                </a:cubicBezTo>
                <a:cubicBezTo>
                  <a:pt x="7119" y="15958"/>
                  <a:pt x="7119" y="15941"/>
                  <a:pt x="7119" y="159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55920" y="5634000"/>
            <a:ext cx="142920" cy="36720"/>
          </a:xfrm>
          <a:custGeom>
            <a:avLst/>
            <a:gdLst/>
            <a:ahLst/>
            <a:rect l="l" t="t" r="r" b="b"/>
            <a:pathLst>
              <a:path w="398" h="100">
                <a:moveTo>
                  <a:pt x="6821" y="15751"/>
                </a:moveTo>
                <a:cubicBezTo>
                  <a:pt x="6886" y="15703"/>
                  <a:pt x="6987" y="15697"/>
                  <a:pt x="7069" y="15677"/>
                </a:cubicBezTo>
                <a:cubicBezTo>
                  <a:pt x="7140" y="15659"/>
                  <a:pt x="7159" y="15652"/>
                  <a:pt x="7218" y="15652"/>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1" name=""/>
          <p:cNvSpPr/>
          <p:nvPr/>
        </p:nvSpPr>
        <p:spPr>
          <a:xfrm>
            <a:off x="2697120" y="5607000"/>
            <a:ext cx="81000" cy="9720"/>
          </a:xfrm>
          <a:custGeom>
            <a:avLst/>
            <a:gdLst/>
            <a:ahLst/>
            <a:rect l="l" t="t" r="r" b="b"/>
            <a:pathLst>
              <a:path w="224" h="26">
                <a:moveTo>
                  <a:pt x="7491" y="15602"/>
                </a:moveTo>
                <a:cubicBezTo>
                  <a:pt x="7568" y="15602"/>
                  <a:pt x="7639" y="15585"/>
                  <a:pt x="7714" y="1557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 name=""/>
          <p:cNvSpPr/>
          <p:nvPr/>
        </p:nvSpPr>
        <p:spPr>
          <a:xfrm>
            <a:off x="2705040" y="5653080"/>
            <a:ext cx="108000" cy="7920"/>
          </a:xfrm>
          <a:custGeom>
            <a:avLst/>
            <a:gdLst/>
            <a:ahLst/>
            <a:rect l="l" t="t" r="r" b="b"/>
            <a:pathLst>
              <a:path w="298" h="26">
                <a:moveTo>
                  <a:pt x="7516" y="15726"/>
                </a:moveTo>
                <a:cubicBezTo>
                  <a:pt x="7617" y="15720"/>
                  <a:pt x="7712" y="15701"/>
                  <a:pt x="7813" y="15701"/>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 name=""/>
          <p:cNvSpPr/>
          <p:nvPr/>
        </p:nvSpPr>
        <p:spPr>
          <a:xfrm>
            <a:off x="3071880" y="5438880"/>
            <a:ext cx="179280" cy="295200"/>
          </a:xfrm>
          <a:custGeom>
            <a:avLst/>
            <a:gdLst/>
            <a:ahLst/>
            <a:rect l="l" t="t" r="r" b="b"/>
            <a:pathLst>
              <a:path w="497" h="820">
                <a:moveTo>
                  <a:pt x="8533" y="15304"/>
                </a:moveTo>
                <a:cubicBezTo>
                  <a:pt x="8552" y="15341"/>
                  <a:pt x="8677" y="15186"/>
                  <a:pt x="8731" y="15156"/>
                </a:cubicBezTo>
                <a:cubicBezTo>
                  <a:pt x="8842" y="15111"/>
                  <a:pt x="8871" y="15087"/>
                  <a:pt x="8930" y="15156"/>
                </a:cubicBezTo>
                <a:cubicBezTo>
                  <a:pt x="8989" y="15312"/>
                  <a:pt x="8947" y="15393"/>
                  <a:pt x="8806" y="15503"/>
                </a:cubicBezTo>
                <a:cubicBezTo>
                  <a:pt x="8740" y="15555"/>
                  <a:pt x="8744" y="15553"/>
                  <a:pt x="8682" y="15553"/>
                </a:cubicBezTo>
                <a:cubicBezTo>
                  <a:pt x="8743" y="15503"/>
                  <a:pt x="8821" y="15464"/>
                  <a:pt x="8905" y="15478"/>
                </a:cubicBezTo>
                <a:cubicBezTo>
                  <a:pt x="9056" y="15502"/>
                  <a:pt x="9052" y="15662"/>
                  <a:pt x="9004" y="15776"/>
                </a:cubicBezTo>
                <a:cubicBezTo>
                  <a:pt x="8935" y="15940"/>
                  <a:pt x="8742" y="15910"/>
                  <a:pt x="8607" y="15900"/>
                </a:cubicBezTo>
                <a:cubicBezTo>
                  <a:pt x="8554" y="15896"/>
                  <a:pt x="8546" y="15890"/>
                  <a:pt x="8533" y="158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411280" y="6000840"/>
            <a:ext cx="9720" cy="233280"/>
          </a:xfrm>
          <a:custGeom>
            <a:avLst/>
            <a:gdLst/>
            <a:ahLst/>
            <a:rect l="l" t="t" r="r" b="b"/>
            <a:pathLst>
              <a:path w="26" h="646">
                <a:moveTo>
                  <a:pt x="6697" y="16694"/>
                </a:moveTo>
                <a:cubicBezTo>
                  <a:pt x="6697" y="16536"/>
                  <a:pt x="6734" y="16958"/>
                  <a:pt x="6722" y="17115"/>
                </a:cubicBezTo>
                <a:cubicBezTo>
                  <a:pt x="6716" y="17190"/>
                  <a:pt x="6697" y="17242"/>
                  <a:pt x="6697" y="173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367000" y="5946840"/>
            <a:ext cx="196920" cy="295200"/>
          </a:xfrm>
          <a:custGeom>
            <a:avLst/>
            <a:gdLst/>
            <a:ahLst/>
            <a:rect l="l" t="t" r="r" b="b"/>
            <a:pathLst>
              <a:path w="547" h="819">
                <a:moveTo>
                  <a:pt x="6573" y="16644"/>
                </a:moveTo>
                <a:cubicBezTo>
                  <a:pt x="6596" y="16551"/>
                  <a:pt x="6736" y="16529"/>
                  <a:pt x="6821" y="16520"/>
                </a:cubicBezTo>
                <a:cubicBezTo>
                  <a:pt x="6954" y="16520"/>
                  <a:pt x="6989" y="16516"/>
                  <a:pt x="7069" y="16545"/>
                </a:cubicBezTo>
                <a:cubicBezTo>
                  <a:pt x="7069" y="16665"/>
                  <a:pt x="7021" y="16760"/>
                  <a:pt x="6921" y="16842"/>
                </a:cubicBezTo>
                <a:cubicBezTo>
                  <a:pt x="6859" y="16893"/>
                  <a:pt x="6732" y="16941"/>
                  <a:pt x="6672" y="16917"/>
                </a:cubicBezTo>
                <a:cubicBezTo>
                  <a:pt x="6828" y="16883"/>
                  <a:pt x="6983" y="16872"/>
                  <a:pt x="7094" y="17016"/>
                </a:cubicBezTo>
                <a:cubicBezTo>
                  <a:pt x="7207" y="17162"/>
                  <a:pt x="7002" y="17280"/>
                  <a:pt x="6896" y="17314"/>
                </a:cubicBezTo>
                <a:cubicBezTo>
                  <a:pt x="6890" y="17316"/>
                  <a:pt x="6618" y="17381"/>
                  <a:pt x="6623" y="17314"/>
                </a:cubicBezTo>
                <a:cubicBezTo>
                  <a:pt x="6631" y="17297"/>
                  <a:pt x="6640" y="17281"/>
                  <a:pt x="6648" y="172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670120" y="6054840"/>
            <a:ext cx="108000" cy="17280"/>
          </a:xfrm>
          <a:custGeom>
            <a:avLst/>
            <a:gdLst/>
            <a:ahLst/>
            <a:rect l="l" t="t" r="r" b="b"/>
            <a:pathLst>
              <a:path w="298" h="50">
                <a:moveTo>
                  <a:pt x="7417" y="16842"/>
                </a:moveTo>
                <a:cubicBezTo>
                  <a:pt x="7511" y="16842"/>
                  <a:pt x="7570" y="16833"/>
                  <a:pt x="7665" y="16842"/>
                </a:cubicBezTo>
                <a:cubicBezTo>
                  <a:pt x="7693" y="16842"/>
                  <a:pt x="7703" y="16845"/>
                  <a:pt x="7714" y="16867"/>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 name=""/>
          <p:cNvSpPr/>
          <p:nvPr/>
        </p:nvSpPr>
        <p:spPr>
          <a:xfrm>
            <a:off x="2670120" y="6143760"/>
            <a:ext cx="125640" cy="9360"/>
          </a:xfrm>
          <a:custGeom>
            <a:avLst/>
            <a:gdLst/>
            <a:ahLst/>
            <a:rect l="l" t="t" r="r" b="b"/>
            <a:pathLst>
              <a:path w="348" h="25">
                <a:moveTo>
                  <a:pt x="7417" y="17066"/>
                </a:moveTo>
                <a:cubicBezTo>
                  <a:pt x="7517" y="17066"/>
                  <a:pt x="7613" y="17086"/>
                  <a:pt x="7714" y="17090"/>
                </a:cubicBezTo>
                <a:cubicBezTo>
                  <a:pt x="7739" y="17090"/>
                  <a:pt x="7747" y="17090"/>
                  <a:pt x="7764" y="17090"/>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 name=""/>
          <p:cNvSpPr/>
          <p:nvPr/>
        </p:nvSpPr>
        <p:spPr>
          <a:xfrm>
            <a:off x="3000240" y="5911920"/>
            <a:ext cx="206640" cy="249120"/>
          </a:xfrm>
          <a:custGeom>
            <a:avLst/>
            <a:gdLst/>
            <a:ahLst/>
            <a:rect l="l" t="t" r="r" b="b"/>
            <a:pathLst>
              <a:path w="572" h="695">
                <a:moveTo>
                  <a:pt x="8905" y="16446"/>
                </a:moveTo>
                <a:cubicBezTo>
                  <a:pt x="8887" y="16393"/>
                  <a:pt x="8759" y="16421"/>
                  <a:pt x="8706" y="16421"/>
                </a:cubicBezTo>
                <a:cubicBezTo>
                  <a:pt x="8549" y="16421"/>
                  <a:pt x="8511" y="16379"/>
                  <a:pt x="8483" y="16520"/>
                </a:cubicBezTo>
                <a:cubicBezTo>
                  <a:pt x="8467" y="16597"/>
                  <a:pt x="8458" y="16642"/>
                  <a:pt x="8458" y="16718"/>
                </a:cubicBezTo>
                <a:cubicBezTo>
                  <a:pt x="8619" y="16704"/>
                  <a:pt x="8747" y="16656"/>
                  <a:pt x="8855" y="16818"/>
                </a:cubicBezTo>
                <a:cubicBezTo>
                  <a:pt x="8971" y="16992"/>
                  <a:pt x="8680" y="17112"/>
                  <a:pt x="8558" y="17115"/>
                </a:cubicBezTo>
                <a:cubicBezTo>
                  <a:pt x="8434" y="17118"/>
                  <a:pt x="8389" y="17070"/>
                  <a:pt x="8334" y="169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017880" y="5813280"/>
            <a:ext cx="312840" cy="17640"/>
          </a:xfrm>
          <a:custGeom>
            <a:avLst/>
            <a:gdLst/>
            <a:ahLst/>
            <a:rect l="l" t="t" r="r" b="b"/>
            <a:pathLst>
              <a:path w="869" h="50">
                <a:moveTo>
                  <a:pt x="8409" y="16173"/>
                </a:moveTo>
                <a:cubicBezTo>
                  <a:pt x="8316" y="16173"/>
                  <a:pt x="8539" y="16203"/>
                  <a:pt x="8632" y="16197"/>
                </a:cubicBezTo>
                <a:cubicBezTo>
                  <a:pt x="8824" y="16185"/>
                  <a:pt x="9010" y="16148"/>
                  <a:pt x="9203" y="16148"/>
                </a:cubicBezTo>
                <a:cubicBezTo>
                  <a:pt x="9227" y="16148"/>
                  <a:pt x="9236" y="16148"/>
                  <a:pt x="9252" y="16148"/>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 name=""/>
          <p:cNvSpPr/>
          <p:nvPr/>
        </p:nvSpPr>
        <p:spPr>
          <a:xfrm>
            <a:off x="2438280" y="6384960"/>
            <a:ext cx="177840" cy="295200"/>
          </a:xfrm>
          <a:custGeom>
            <a:avLst/>
            <a:gdLst/>
            <a:ahLst/>
            <a:rect l="l" t="t" r="r" b="b"/>
            <a:pathLst>
              <a:path w="497" h="820">
                <a:moveTo>
                  <a:pt x="7069" y="17835"/>
                </a:moveTo>
                <a:cubicBezTo>
                  <a:pt x="7110" y="17855"/>
                  <a:pt x="7127" y="17852"/>
                  <a:pt x="7119" y="17884"/>
                </a:cubicBezTo>
                <a:cubicBezTo>
                  <a:pt x="7097" y="17830"/>
                  <a:pt x="7055" y="17760"/>
                  <a:pt x="6995" y="17735"/>
                </a:cubicBezTo>
                <a:cubicBezTo>
                  <a:pt x="6987" y="17735"/>
                  <a:pt x="6978" y="17735"/>
                  <a:pt x="6970" y="17735"/>
                </a:cubicBezTo>
                <a:cubicBezTo>
                  <a:pt x="6862" y="17857"/>
                  <a:pt x="6776" y="18077"/>
                  <a:pt x="6772" y="18256"/>
                </a:cubicBezTo>
                <a:cubicBezTo>
                  <a:pt x="6770" y="18362"/>
                  <a:pt x="6837" y="18610"/>
                  <a:pt x="6995" y="18554"/>
                </a:cubicBezTo>
                <a:cubicBezTo>
                  <a:pt x="7086" y="18522"/>
                  <a:pt x="7194" y="18435"/>
                  <a:pt x="7268" y="183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786040" y="6456240"/>
            <a:ext cx="63360" cy="36720"/>
          </a:xfrm>
          <a:custGeom>
            <a:avLst/>
            <a:gdLst/>
            <a:ahLst/>
            <a:rect l="l" t="t" r="r" b="b"/>
            <a:pathLst>
              <a:path w="175" h="100">
                <a:moveTo>
                  <a:pt x="7739" y="17959"/>
                </a:moveTo>
                <a:cubicBezTo>
                  <a:pt x="7877" y="17924"/>
                  <a:pt x="7913" y="17883"/>
                  <a:pt x="7888" y="18033"/>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 name=""/>
          <p:cNvSpPr/>
          <p:nvPr/>
        </p:nvSpPr>
        <p:spPr>
          <a:xfrm>
            <a:off x="2768760" y="6535800"/>
            <a:ext cx="71280" cy="9360"/>
          </a:xfrm>
          <a:custGeom>
            <a:avLst/>
            <a:gdLst/>
            <a:ahLst/>
            <a:rect l="l" t="t" r="r" b="b"/>
            <a:pathLst>
              <a:path w="200" h="26">
                <a:moveTo>
                  <a:pt x="7689" y="18182"/>
                </a:moveTo>
                <a:cubicBezTo>
                  <a:pt x="7762" y="18176"/>
                  <a:pt x="7831" y="18166"/>
                  <a:pt x="7888" y="18182"/>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 name=""/>
          <p:cNvSpPr/>
          <p:nvPr/>
        </p:nvSpPr>
        <p:spPr>
          <a:xfrm>
            <a:off x="5072040" y="5438880"/>
            <a:ext cx="187200" cy="258480"/>
          </a:xfrm>
          <a:custGeom>
            <a:avLst/>
            <a:gdLst/>
            <a:ahLst/>
            <a:rect l="l" t="t" r="r" b="b"/>
            <a:pathLst>
              <a:path w="522" h="720">
                <a:moveTo>
                  <a:pt x="14089" y="15304"/>
                </a:moveTo>
                <a:cubicBezTo>
                  <a:pt x="14133" y="15174"/>
                  <a:pt x="14217" y="15151"/>
                  <a:pt x="14337" y="15106"/>
                </a:cubicBezTo>
                <a:cubicBezTo>
                  <a:pt x="14414" y="15205"/>
                  <a:pt x="14501" y="15316"/>
                  <a:pt x="14337" y="15404"/>
                </a:cubicBezTo>
                <a:cubicBezTo>
                  <a:pt x="14255" y="15425"/>
                  <a:pt x="14239" y="15433"/>
                  <a:pt x="14188" y="15429"/>
                </a:cubicBezTo>
                <a:cubicBezTo>
                  <a:pt x="14323" y="15402"/>
                  <a:pt x="14435" y="15372"/>
                  <a:pt x="14560" y="15478"/>
                </a:cubicBezTo>
                <a:cubicBezTo>
                  <a:pt x="14742" y="15633"/>
                  <a:pt x="14492" y="15800"/>
                  <a:pt x="14362" y="15825"/>
                </a:cubicBezTo>
                <a:cubicBezTo>
                  <a:pt x="14254" y="15825"/>
                  <a:pt x="14229" y="15825"/>
                  <a:pt x="14163" y="158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938840" y="5749920"/>
            <a:ext cx="419040" cy="36360"/>
          </a:xfrm>
          <a:custGeom>
            <a:avLst/>
            <a:gdLst/>
            <a:ahLst/>
            <a:rect l="l" t="t" r="r" b="b"/>
            <a:pathLst>
              <a:path w="1167" h="100">
                <a:moveTo>
                  <a:pt x="13717" y="16073"/>
                </a:moveTo>
                <a:cubicBezTo>
                  <a:pt x="13979" y="16033"/>
                  <a:pt x="14215" y="15980"/>
                  <a:pt x="14486" y="15974"/>
                </a:cubicBezTo>
                <a:cubicBezTo>
                  <a:pt x="14627" y="15971"/>
                  <a:pt x="14839" y="15866"/>
                  <a:pt x="14883" y="15999"/>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 name=""/>
          <p:cNvSpPr/>
          <p:nvPr/>
        </p:nvSpPr>
        <p:spPr>
          <a:xfrm>
            <a:off x="5027760" y="5830920"/>
            <a:ext cx="223560" cy="233280"/>
          </a:xfrm>
          <a:custGeom>
            <a:avLst/>
            <a:gdLst/>
            <a:ahLst/>
            <a:rect l="l" t="t" r="r" b="b"/>
            <a:pathLst>
              <a:path w="621" h="646">
                <a:moveTo>
                  <a:pt x="14486" y="16197"/>
                </a:moveTo>
                <a:cubicBezTo>
                  <a:pt x="14413" y="16206"/>
                  <a:pt x="14170" y="16210"/>
                  <a:pt x="14114" y="16247"/>
                </a:cubicBezTo>
                <a:cubicBezTo>
                  <a:pt x="14084" y="16267"/>
                  <a:pt x="14091" y="16508"/>
                  <a:pt x="14089" y="16545"/>
                </a:cubicBezTo>
                <a:cubicBezTo>
                  <a:pt x="14223" y="16491"/>
                  <a:pt x="14277" y="16373"/>
                  <a:pt x="14461" y="16421"/>
                </a:cubicBezTo>
                <a:cubicBezTo>
                  <a:pt x="14725" y="16490"/>
                  <a:pt x="14538" y="16805"/>
                  <a:pt x="14362" y="16842"/>
                </a:cubicBezTo>
                <a:cubicBezTo>
                  <a:pt x="14147" y="16842"/>
                  <a:pt x="14079" y="16846"/>
                  <a:pt x="13965" y="167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59120" y="5680080"/>
            <a:ext cx="1044720" cy="357120"/>
          </a:xfrm>
          <a:custGeom>
            <a:avLst/>
            <a:gdLst/>
            <a:ahLst/>
            <a:rect l="l" t="t" r="r" b="b"/>
            <a:pathLst>
              <a:path w="2903" h="993">
                <a:moveTo>
                  <a:pt x="10443" y="15776"/>
                </a:moveTo>
                <a:cubicBezTo>
                  <a:pt x="10948" y="15850"/>
                  <a:pt x="11444" y="15936"/>
                  <a:pt x="11956" y="15974"/>
                </a:cubicBezTo>
                <a:cubicBezTo>
                  <a:pt x="12396" y="16007"/>
                  <a:pt x="12859" y="15972"/>
                  <a:pt x="13295" y="16024"/>
                </a:cubicBezTo>
                <a:cubicBezTo>
                  <a:pt x="13312" y="16032"/>
                  <a:pt x="13328" y="16041"/>
                  <a:pt x="13345" y="16049"/>
                </a:cubicBezTo>
                <a:cubicBezTo>
                  <a:pt x="13177" y="16093"/>
                  <a:pt x="13019" y="16136"/>
                  <a:pt x="12849" y="16197"/>
                </a:cubicBezTo>
                <a:cubicBezTo>
                  <a:pt x="12241" y="16417"/>
                  <a:pt x="11600" y="16596"/>
                  <a:pt x="10964" y="16718"/>
                </a:cubicBezTo>
                <a:cubicBezTo>
                  <a:pt x="10850" y="16740"/>
                  <a:pt x="10757" y="16755"/>
                  <a:pt x="10641" y="16768"/>
                </a:cubicBezTo>
                <a:cubicBezTo>
                  <a:pt x="10617" y="16771"/>
                  <a:pt x="10591" y="16766"/>
                  <a:pt x="10567" y="167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955960" y="6375240"/>
            <a:ext cx="231840" cy="268560"/>
          </a:xfrm>
          <a:custGeom>
            <a:avLst/>
            <a:gdLst/>
            <a:ahLst/>
            <a:rect l="l" t="t" r="r" b="b"/>
            <a:pathLst>
              <a:path w="646" h="745">
                <a:moveTo>
                  <a:pt x="8434" y="17810"/>
                </a:moveTo>
                <a:cubicBezTo>
                  <a:pt x="8448" y="17767"/>
                  <a:pt x="8503" y="17754"/>
                  <a:pt x="8558" y="17735"/>
                </a:cubicBezTo>
                <a:cubicBezTo>
                  <a:pt x="8682" y="17691"/>
                  <a:pt x="8726" y="17726"/>
                  <a:pt x="8756" y="17859"/>
                </a:cubicBezTo>
                <a:cubicBezTo>
                  <a:pt x="8774" y="17937"/>
                  <a:pt x="8679" y="18038"/>
                  <a:pt x="8607" y="18058"/>
                </a:cubicBezTo>
                <a:cubicBezTo>
                  <a:pt x="8591" y="18058"/>
                  <a:pt x="8574" y="18058"/>
                  <a:pt x="8558" y="18058"/>
                </a:cubicBezTo>
                <a:cubicBezTo>
                  <a:pt x="8500" y="18058"/>
                  <a:pt x="8625" y="18035"/>
                  <a:pt x="8657" y="18033"/>
                </a:cubicBezTo>
                <a:cubicBezTo>
                  <a:pt x="8747" y="18029"/>
                  <a:pt x="8790" y="18073"/>
                  <a:pt x="8830" y="18157"/>
                </a:cubicBezTo>
                <a:cubicBezTo>
                  <a:pt x="8887" y="18276"/>
                  <a:pt x="8788" y="18361"/>
                  <a:pt x="8682" y="18405"/>
                </a:cubicBezTo>
                <a:cubicBezTo>
                  <a:pt x="8569" y="18452"/>
                  <a:pt x="8474" y="18464"/>
                  <a:pt x="8359" y="18430"/>
                </a:cubicBezTo>
                <a:cubicBezTo>
                  <a:pt x="8298" y="18412"/>
                  <a:pt x="8255" y="18389"/>
                  <a:pt x="8210" y="183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03680" y="3268800"/>
            <a:ext cx="161640" cy="36360"/>
          </a:xfrm>
          <a:custGeom>
            <a:avLst/>
            <a:gdLst/>
            <a:ahLst/>
            <a:rect l="l" t="t" r="r" b="b"/>
            <a:pathLst>
              <a:path w="447" h="100">
                <a:moveTo>
                  <a:pt x="7813" y="9178"/>
                </a:moveTo>
                <a:cubicBezTo>
                  <a:pt x="7805" y="9178"/>
                  <a:pt x="7797" y="9178"/>
                  <a:pt x="7789" y="9178"/>
                </a:cubicBezTo>
                <a:cubicBezTo>
                  <a:pt x="7824" y="9124"/>
                  <a:pt x="8033" y="9119"/>
                  <a:pt x="8111" y="9103"/>
                </a:cubicBezTo>
                <a:cubicBezTo>
                  <a:pt x="8185" y="9085"/>
                  <a:pt x="8192" y="9077"/>
                  <a:pt x="8235" y="9079"/>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 name=""/>
          <p:cNvSpPr/>
          <p:nvPr/>
        </p:nvSpPr>
        <p:spPr>
          <a:xfrm>
            <a:off x="2803680" y="3286080"/>
            <a:ext cx="233280" cy="9720"/>
          </a:xfrm>
          <a:custGeom>
            <a:avLst/>
            <a:gdLst/>
            <a:ahLst/>
            <a:rect l="l" t="t" r="r" b="b"/>
            <a:pathLst>
              <a:path w="646" h="26">
                <a:moveTo>
                  <a:pt x="7789" y="9153"/>
                </a:moveTo>
                <a:cubicBezTo>
                  <a:pt x="7937" y="9134"/>
                  <a:pt x="8059" y="9149"/>
                  <a:pt x="8210" y="9153"/>
                </a:cubicBezTo>
                <a:cubicBezTo>
                  <a:pt x="8285" y="9155"/>
                  <a:pt x="8359" y="9153"/>
                  <a:pt x="8434" y="9153"/>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0" name=""/>
          <p:cNvSpPr/>
          <p:nvPr/>
        </p:nvSpPr>
        <p:spPr>
          <a:xfrm>
            <a:off x="3187800" y="3821040"/>
            <a:ext cx="206280" cy="28800"/>
          </a:xfrm>
          <a:custGeom>
            <a:avLst/>
            <a:gdLst/>
            <a:ahLst/>
            <a:rect l="l" t="t" r="r" b="b"/>
            <a:pathLst>
              <a:path w="572" h="76">
                <a:moveTo>
                  <a:pt x="8855" y="10691"/>
                </a:moveTo>
                <a:cubicBezTo>
                  <a:pt x="8942" y="10669"/>
                  <a:pt x="9030" y="10679"/>
                  <a:pt x="9128" y="10666"/>
                </a:cubicBezTo>
                <a:cubicBezTo>
                  <a:pt x="9214" y="10655"/>
                  <a:pt x="9289" y="10641"/>
                  <a:pt x="9376" y="10641"/>
                </a:cubicBezTo>
                <a:cubicBezTo>
                  <a:pt x="9240" y="10641"/>
                  <a:pt x="9113" y="10654"/>
                  <a:pt x="8979" y="10666"/>
                </a:cubicBezTo>
                <a:cubicBezTo>
                  <a:pt x="8963" y="10666"/>
                  <a:pt x="8946" y="10666"/>
                  <a:pt x="8930" y="10666"/>
                </a:cubicBezTo>
                <a:cubicBezTo>
                  <a:pt x="9107" y="10666"/>
                  <a:pt x="9249" y="10648"/>
                  <a:pt x="9426" y="10616"/>
                </a:cubicBezTo>
              </a:path>
            </a:pathLst>
          </a:custGeom>
          <a:noFill/>
          <a:ln cap="rnd" w="19080">
            <a:solidFill>
              <a:srgbClr val="ff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1" name=""/>
          <p:cNvSpPr/>
          <p:nvPr/>
        </p:nvSpPr>
        <p:spPr>
          <a:xfrm>
            <a:off x="3759120" y="4822920"/>
            <a:ext cx="2617920" cy="88920"/>
          </a:xfrm>
          <a:custGeom>
            <a:avLst/>
            <a:gdLst/>
            <a:ahLst/>
            <a:rect l="l" t="t" r="r" b="b"/>
            <a:pathLst>
              <a:path w="7269" h="249">
                <a:moveTo>
                  <a:pt x="10740" y="13395"/>
                </a:moveTo>
                <a:cubicBezTo>
                  <a:pt x="10690" y="13405"/>
                  <a:pt x="10642" y="13410"/>
                  <a:pt x="10592" y="13419"/>
                </a:cubicBezTo>
                <a:cubicBezTo>
                  <a:pt x="10559" y="13425"/>
                  <a:pt x="10526" y="13434"/>
                  <a:pt x="10492" y="13444"/>
                </a:cubicBezTo>
                <a:cubicBezTo>
                  <a:pt x="10451" y="13456"/>
                  <a:pt x="10485" y="13457"/>
                  <a:pt x="10443" y="13469"/>
                </a:cubicBezTo>
                <a:cubicBezTo>
                  <a:pt x="10548" y="13477"/>
                  <a:pt x="10628" y="13473"/>
                  <a:pt x="10740" y="13469"/>
                </a:cubicBezTo>
                <a:cubicBezTo>
                  <a:pt x="10850" y="13465"/>
                  <a:pt x="10934" y="13476"/>
                  <a:pt x="11038" y="13494"/>
                </a:cubicBezTo>
                <a:cubicBezTo>
                  <a:pt x="11116" y="13507"/>
                  <a:pt x="11207" y="13537"/>
                  <a:pt x="11286" y="13543"/>
                </a:cubicBezTo>
                <a:cubicBezTo>
                  <a:pt x="11517" y="13559"/>
                  <a:pt x="11751" y="13542"/>
                  <a:pt x="11981" y="13568"/>
                </a:cubicBezTo>
                <a:cubicBezTo>
                  <a:pt x="12145" y="13586"/>
                  <a:pt x="12310" y="13609"/>
                  <a:pt x="12477" y="13593"/>
                </a:cubicBezTo>
                <a:cubicBezTo>
                  <a:pt x="12570" y="13584"/>
                  <a:pt x="12659" y="13558"/>
                  <a:pt x="12750" y="13543"/>
                </a:cubicBezTo>
                <a:cubicBezTo>
                  <a:pt x="12851" y="13526"/>
                  <a:pt x="12944" y="13502"/>
                  <a:pt x="13047" y="13494"/>
                </a:cubicBezTo>
                <a:cubicBezTo>
                  <a:pt x="13295" y="13474"/>
                  <a:pt x="13549" y="13504"/>
                  <a:pt x="13791" y="13519"/>
                </a:cubicBezTo>
                <a:cubicBezTo>
                  <a:pt x="13950" y="13529"/>
                  <a:pt x="14106" y="13524"/>
                  <a:pt x="14263" y="13543"/>
                </a:cubicBezTo>
                <a:cubicBezTo>
                  <a:pt x="14405" y="13560"/>
                  <a:pt x="14542" y="13555"/>
                  <a:pt x="14684" y="13568"/>
                </a:cubicBezTo>
                <a:cubicBezTo>
                  <a:pt x="14840" y="13582"/>
                  <a:pt x="14999" y="13603"/>
                  <a:pt x="15156" y="13618"/>
                </a:cubicBezTo>
                <a:cubicBezTo>
                  <a:pt x="15281" y="13630"/>
                  <a:pt x="15401" y="13641"/>
                  <a:pt x="15528" y="13643"/>
                </a:cubicBezTo>
                <a:cubicBezTo>
                  <a:pt x="15680" y="13645"/>
                  <a:pt x="15826" y="13625"/>
                  <a:pt x="15974" y="13618"/>
                </a:cubicBezTo>
                <a:cubicBezTo>
                  <a:pt x="16190" y="13608"/>
                  <a:pt x="16405" y="13606"/>
                  <a:pt x="16619" y="13593"/>
                </a:cubicBezTo>
                <a:cubicBezTo>
                  <a:pt x="16809" y="13582"/>
                  <a:pt x="17001" y="13580"/>
                  <a:pt x="17190" y="13568"/>
                </a:cubicBezTo>
                <a:cubicBezTo>
                  <a:pt x="17349" y="13558"/>
                  <a:pt x="17504" y="13582"/>
                  <a:pt x="17661" y="13593"/>
                </a:cubicBezTo>
                <a:cubicBezTo>
                  <a:pt x="17686" y="13593"/>
                  <a:pt x="17694" y="13593"/>
                  <a:pt x="17711" y="13593"/>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2000"/>
            </a:br>
            <a:endParaRPr b="0" lang="en-US" sz="2000" spc="-1" strike="noStrike">
              <a:solidFill>
                <a:srgbClr val="000000"/>
              </a:solidFill>
              <a:latin typeface="Arial"/>
            </a:endParaRPr>
          </a:p>
        </p:txBody>
      </p:sp>
      <p:sp>
        <p:nvSpPr>
          <p:cNvPr id="103" name="PlaceHolder 2"/>
          <p:cNvSpPr>
            <a:spLocks noGrp="1"/>
          </p:cNvSpPr>
          <p:nvPr>
            <p:ph/>
          </p:nvPr>
        </p:nvSpPr>
        <p:spPr>
          <a:xfrm>
            <a:off x="304560" y="990360"/>
            <a:ext cx="8381880" cy="513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 another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A:B is 1:6 and B:C is 3:8, then what is the ratio of A:C?</a:t>
            </a:r>
            <a:endParaRPr b="0" lang="en-US" sz="3200" spc="-1" strike="noStrike">
              <a:solidFill>
                <a:srgbClr val="000000"/>
              </a:solidFill>
              <a:latin typeface="Arial"/>
            </a:endParaRPr>
          </a:p>
        </p:txBody>
      </p:sp>
      <p:sp>
        <p:nvSpPr>
          <p:cNvPr id="104" name=""/>
          <p:cNvSpPr/>
          <p:nvPr/>
        </p:nvSpPr>
        <p:spPr>
          <a:xfrm>
            <a:off x="2820960" y="1465200"/>
            <a:ext cx="2287440" cy="865080"/>
          </a:xfrm>
          <a:custGeom>
            <a:avLst/>
            <a:gdLst/>
            <a:ahLst/>
            <a:rect l="l" t="t" r="r" b="b"/>
            <a:pathLst>
              <a:path w="6351" h="2407">
                <a:moveTo>
                  <a:pt x="14188" y="5159"/>
                </a:moveTo>
                <a:lnTo>
                  <a:pt x="14188" y="5159"/>
                </a:lnTo>
              </a:path>
              <a:path w="6351" h="2407">
                <a:moveTo>
                  <a:pt x="13196" y="6449"/>
                </a:moveTo>
                <a:cubicBezTo>
                  <a:pt x="13204" y="6457"/>
                  <a:pt x="13213" y="6466"/>
                  <a:pt x="13221" y="6474"/>
                </a:cubicBezTo>
              </a:path>
              <a:path w="6351" h="2407">
                <a:moveTo>
                  <a:pt x="7913" y="4316"/>
                </a:moveTo>
                <a:cubicBezTo>
                  <a:pt x="7962" y="4349"/>
                  <a:pt x="7951" y="4354"/>
                  <a:pt x="7987" y="4366"/>
                </a:cubicBezTo>
              </a:path>
              <a:path w="6351" h="2407">
                <a:moveTo>
                  <a:pt x="7838" y="4242"/>
                </a:moveTo>
                <a:cubicBezTo>
                  <a:pt x="7846" y="4242"/>
                  <a:pt x="7855" y="4242"/>
                  <a:pt x="7863" y="4242"/>
                </a:cubicBezTo>
              </a:path>
              <a:path w="6351" h="2407">
                <a:moveTo>
                  <a:pt x="7863" y="4242"/>
                </a:moveTo>
                <a:lnTo>
                  <a:pt x="7863" y="4242"/>
                </a:lnTo>
              </a:path>
              <a:path w="6351" h="2407">
                <a:moveTo>
                  <a:pt x="8582" y="4192"/>
                </a:moveTo>
                <a:cubicBezTo>
                  <a:pt x="8612" y="4199"/>
                  <a:pt x="8627" y="4210"/>
                  <a:pt x="8657" y="4217"/>
                </a:cubicBezTo>
              </a:path>
              <a:path w="6351" h="2407">
                <a:moveTo>
                  <a:pt x="8657" y="4217"/>
                </a:moveTo>
                <a:lnTo>
                  <a:pt x="8657" y="4217"/>
                </a:lnTo>
              </a:path>
              <a:path w="6351" h="2407">
                <a:moveTo>
                  <a:pt x="8508" y="4068"/>
                </a:moveTo>
                <a:lnTo>
                  <a:pt x="8508" y="406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724120" y="1366920"/>
            <a:ext cx="714240" cy="339480"/>
          </a:xfrm>
          <a:custGeom>
            <a:avLst/>
            <a:gdLst/>
            <a:ahLst/>
            <a:rect l="l" t="t" r="r" b="b"/>
            <a:pathLst>
              <a:path w="1986" h="944">
                <a:moveTo>
                  <a:pt x="7590" y="4490"/>
                </a:moveTo>
                <a:cubicBezTo>
                  <a:pt x="7565" y="4490"/>
                  <a:pt x="7557" y="4490"/>
                  <a:pt x="7565" y="4465"/>
                </a:cubicBezTo>
                <a:cubicBezTo>
                  <a:pt x="7581" y="4514"/>
                  <a:pt x="7635" y="4668"/>
                  <a:pt x="7714" y="4638"/>
                </a:cubicBezTo>
                <a:cubicBezTo>
                  <a:pt x="7758" y="4621"/>
                  <a:pt x="7799" y="4549"/>
                  <a:pt x="7813" y="4514"/>
                </a:cubicBezTo>
              </a:path>
              <a:path w="1986" h="944">
                <a:moveTo>
                  <a:pt x="7789" y="4390"/>
                </a:moveTo>
                <a:cubicBezTo>
                  <a:pt x="7846" y="4471"/>
                  <a:pt x="7891" y="4541"/>
                  <a:pt x="7962" y="4614"/>
                </a:cubicBezTo>
              </a:path>
              <a:path w="1986" h="944">
                <a:moveTo>
                  <a:pt x="7764" y="4415"/>
                </a:moveTo>
                <a:cubicBezTo>
                  <a:pt x="7801" y="4387"/>
                  <a:pt x="7832" y="4391"/>
                  <a:pt x="7888" y="4415"/>
                </a:cubicBezTo>
                <a:cubicBezTo>
                  <a:pt x="7881" y="4474"/>
                  <a:pt x="7841" y="4528"/>
                  <a:pt x="7863" y="4539"/>
                </a:cubicBezTo>
              </a:path>
              <a:path w="1986" h="944">
                <a:moveTo>
                  <a:pt x="8111" y="4316"/>
                </a:moveTo>
                <a:cubicBezTo>
                  <a:pt x="8119" y="4324"/>
                  <a:pt x="8128" y="4333"/>
                  <a:pt x="8136" y="4341"/>
                </a:cubicBezTo>
                <a:cubicBezTo>
                  <a:pt x="8088" y="4329"/>
                  <a:pt x="8048" y="4295"/>
                  <a:pt x="8037" y="4242"/>
                </a:cubicBezTo>
                <a:cubicBezTo>
                  <a:pt x="8021" y="4160"/>
                  <a:pt x="8251" y="4253"/>
                  <a:pt x="8285" y="4266"/>
                </a:cubicBezTo>
              </a:path>
              <a:path w="1986" h="944">
                <a:moveTo>
                  <a:pt x="8285" y="4167"/>
                </a:moveTo>
                <a:cubicBezTo>
                  <a:pt x="8308" y="4098"/>
                  <a:pt x="8326" y="4040"/>
                  <a:pt x="8334" y="3969"/>
                </a:cubicBezTo>
                <a:cubicBezTo>
                  <a:pt x="8302" y="3902"/>
                  <a:pt x="8292" y="4094"/>
                  <a:pt x="8310" y="4142"/>
                </a:cubicBezTo>
                <a:cubicBezTo>
                  <a:pt x="8362" y="4277"/>
                  <a:pt x="8475" y="4133"/>
                  <a:pt x="8508" y="4093"/>
                </a:cubicBezTo>
              </a:path>
              <a:path w="1986" h="944">
                <a:moveTo>
                  <a:pt x="8285" y="4514"/>
                </a:moveTo>
                <a:cubicBezTo>
                  <a:pt x="8222" y="4488"/>
                  <a:pt x="8234" y="4478"/>
                  <a:pt x="8186" y="4514"/>
                </a:cubicBezTo>
                <a:cubicBezTo>
                  <a:pt x="8235" y="4514"/>
                  <a:pt x="8285" y="4514"/>
                  <a:pt x="8334" y="4514"/>
                </a:cubicBezTo>
                <a:cubicBezTo>
                  <a:pt x="8320" y="4586"/>
                  <a:pt x="8290" y="4595"/>
                  <a:pt x="8235" y="4638"/>
                </a:cubicBezTo>
              </a:path>
              <a:path w="1986" h="944">
                <a:moveTo>
                  <a:pt x="8310" y="4242"/>
                </a:moveTo>
                <a:cubicBezTo>
                  <a:pt x="8385" y="4317"/>
                  <a:pt x="8445" y="4436"/>
                  <a:pt x="8483" y="4341"/>
                </a:cubicBezTo>
              </a:path>
              <a:path w="1986" h="944">
                <a:moveTo>
                  <a:pt x="8434" y="4142"/>
                </a:moveTo>
                <a:cubicBezTo>
                  <a:pt x="8434" y="4200"/>
                  <a:pt x="8434" y="4258"/>
                  <a:pt x="8434" y="4316"/>
                </a:cubicBezTo>
                <a:cubicBezTo>
                  <a:pt x="8503" y="4307"/>
                  <a:pt x="8566" y="4297"/>
                  <a:pt x="8582" y="4217"/>
                </a:cubicBezTo>
                <a:cubicBezTo>
                  <a:pt x="8582" y="4209"/>
                  <a:pt x="8582" y="4200"/>
                  <a:pt x="8582" y="4192"/>
                </a:cubicBezTo>
              </a:path>
              <a:path w="1986" h="944">
                <a:moveTo>
                  <a:pt x="8706" y="4142"/>
                </a:moveTo>
                <a:cubicBezTo>
                  <a:pt x="8659" y="4079"/>
                  <a:pt x="8715" y="4057"/>
                  <a:pt x="8706" y="3994"/>
                </a:cubicBezTo>
                <a:cubicBezTo>
                  <a:pt x="8698" y="3986"/>
                  <a:pt x="8690" y="3977"/>
                  <a:pt x="8682" y="3969"/>
                </a:cubicBezTo>
                <a:cubicBezTo>
                  <a:pt x="8649" y="3980"/>
                  <a:pt x="8640" y="4048"/>
                  <a:pt x="8657" y="4093"/>
                </a:cubicBezTo>
                <a:cubicBezTo>
                  <a:pt x="8665" y="4101"/>
                  <a:pt x="8674" y="4110"/>
                  <a:pt x="8682" y="4118"/>
                </a:cubicBezTo>
                <a:cubicBezTo>
                  <a:pt x="8779" y="4106"/>
                  <a:pt x="8794" y="4091"/>
                  <a:pt x="8806" y="3994"/>
                </a:cubicBezTo>
              </a:path>
              <a:path w="1986" h="944">
                <a:moveTo>
                  <a:pt x="8830" y="3820"/>
                </a:moveTo>
                <a:cubicBezTo>
                  <a:pt x="8830" y="3789"/>
                  <a:pt x="8828" y="3820"/>
                  <a:pt x="8880" y="3820"/>
                </a:cubicBezTo>
                <a:cubicBezTo>
                  <a:pt x="8855" y="3870"/>
                  <a:pt x="8847" y="3886"/>
                  <a:pt x="8806" y="3894"/>
                </a:cubicBezTo>
              </a:path>
              <a:path w="1986" h="944">
                <a:moveTo>
                  <a:pt x="8930" y="4539"/>
                </a:moveTo>
                <a:cubicBezTo>
                  <a:pt x="8882" y="4603"/>
                  <a:pt x="8908" y="4664"/>
                  <a:pt x="8930" y="4738"/>
                </a:cubicBezTo>
                <a:cubicBezTo>
                  <a:pt x="9006" y="4717"/>
                  <a:pt x="9118" y="4654"/>
                  <a:pt x="9054" y="4539"/>
                </a:cubicBezTo>
                <a:cubicBezTo>
                  <a:pt x="9038" y="4510"/>
                  <a:pt x="8987" y="4539"/>
                  <a:pt x="8954" y="4539"/>
                </a:cubicBezTo>
              </a:path>
              <a:path w="1986" h="944">
                <a:moveTo>
                  <a:pt x="9178" y="4415"/>
                </a:moveTo>
                <a:cubicBezTo>
                  <a:pt x="9169" y="4387"/>
                  <a:pt x="9127" y="4368"/>
                  <a:pt x="9103" y="4415"/>
                </a:cubicBezTo>
                <a:cubicBezTo>
                  <a:pt x="9070" y="4480"/>
                  <a:pt x="9066" y="4585"/>
                  <a:pt x="9153" y="4614"/>
                </a:cubicBezTo>
                <a:cubicBezTo>
                  <a:pt x="9261" y="4650"/>
                  <a:pt x="9227" y="4494"/>
                  <a:pt x="9227" y="4440"/>
                </a:cubicBezTo>
                <a:cubicBezTo>
                  <a:pt x="9177" y="4440"/>
                  <a:pt x="9278" y="4482"/>
                  <a:pt x="9302" y="4490"/>
                </a:cubicBezTo>
                <a:cubicBezTo>
                  <a:pt x="9327" y="4490"/>
                  <a:pt x="9335" y="4490"/>
                  <a:pt x="9327" y="4465"/>
                </a:cubicBezTo>
              </a:path>
              <a:path w="1986" h="944">
                <a:moveTo>
                  <a:pt x="9178" y="4142"/>
                </a:moveTo>
                <a:cubicBezTo>
                  <a:pt x="9275" y="4191"/>
                  <a:pt x="9309" y="4279"/>
                  <a:pt x="9376" y="4366"/>
                </a:cubicBezTo>
                <a:cubicBezTo>
                  <a:pt x="9403" y="4402"/>
                  <a:pt x="9468" y="4401"/>
                  <a:pt x="9500" y="4366"/>
                </a:cubicBezTo>
                <a:cubicBezTo>
                  <a:pt x="9522" y="4322"/>
                  <a:pt x="9525" y="4310"/>
                  <a:pt x="9550" y="4291"/>
                </a:cubicBezTo>
              </a:path>
              <a:path w="1986" h="944">
                <a:moveTo>
                  <a:pt x="9252" y="4390"/>
                </a:moveTo>
                <a:cubicBezTo>
                  <a:pt x="9269" y="4307"/>
                  <a:pt x="9340" y="4263"/>
                  <a:pt x="9376" y="4192"/>
                </a:cubicBezTo>
                <a:cubicBezTo>
                  <a:pt x="9376" y="4184"/>
                  <a:pt x="9376" y="4175"/>
                  <a:pt x="9376" y="41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303640" y="3402000"/>
            <a:ext cx="206280" cy="277920"/>
          </a:xfrm>
          <a:custGeom>
            <a:avLst/>
            <a:gdLst/>
            <a:ahLst/>
            <a:rect l="l" t="t" r="r" b="b"/>
            <a:pathLst>
              <a:path w="571" h="770">
                <a:moveTo>
                  <a:pt x="6499" y="9451"/>
                </a:moveTo>
                <a:cubicBezTo>
                  <a:pt x="6475" y="9618"/>
                  <a:pt x="6385" y="9800"/>
                  <a:pt x="6400" y="9971"/>
                </a:cubicBezTo>
                <a:cubicBezTo>
                  <a:pt x="6423" y="10230"/>
                  <a:pt x="6701" y="10209"/>
                  <a:pt x="6846" y="10071"/>
                </a:cubicBezTo>
                <a:cubicBezTo>
                  <a:pt x="6931" y="9943"/>
                  <a:pt x="6958" y="9918"/>
                  <a:pt x="6970" y="9823"/>
                </a:cubicBezTo>
                <a:cubicBezTo>
                  <a:pt x="6837" y="9778"/>
                  <a:pt x="6734" y="9973"/>
                  <a:pt x="6697" y="10096"/>
                </a:cubicBezTo>
                <a:cubicBezTo>
                  <a:pt x="6666" y="10196"/>
                  <a:pt x="6694" y="10222"/>
                  <a:pt x="6747" y="1019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54080" y="2803680"/>
            <a:ext cx="392040" cy="911160"/>
          </a:xfrm>
          <a:custGeom>
            <a:avLst/>
            <a:gdLst/>
            <a:ahLst/>
            <a:rect l="l" t="t" r="r" b="b"/>
            <a:pathLst>
              <a:path w="1092" h="2531">
                <a:moveTo>
                  <a:pt x="3249" y="8037"/>
                </a:moveTo>
                <a:cubicBezTo>
                  <a:pt x="3310" y="8179"/>
                  <a:pt x="3250" y="8425"/>
                  <a:pt x="3225" y="8607"/>
                </a:cubicBezTo>
                <a:cubicBezTo>
                  <a:pt x="3200" y="8407"/>
                  <a:pt x="3211" y="8274"/>
                  <a:pt x="3299" y="8086"/>
                </a:cubicBezTo>
                <a:cubicBezTo>
                  <a:pt x="3369" y="7935"/>
                  <a:pt x="3418" y="7864"/>
                  <a:pt x="3547" y="7789"/>
                </a:cubicBezTo>
                <a:cubicBezTo>
                  <a:pt x="3699" y="8022"/>
                  <a:pt x="3767" y="8220"/>
                  <a:pt x="3746" y="8508"/>
                </a:cubicBezTo>
                <a:cubicBezTo>
                  <a:pt x="3742" y="8567"/>
                  <a:pt x="3721" y="8691"/>
                  <a:pt x="3721" y="8632"/>
                </a:cubicBezTo>
              </a:path>
              <a:path w="1092" h="2531">
                <a:moveTo>
                  <a:pt x="3150" y="8359"/>
                </a:moveTo>
                <a:cubicBezTo>
                  <a:pt x="3348" y="8342"/>
                  <a:pt x="3547" y="8301"/>
                  <a:pt x="3746" y="8285"/>
                </a:cubicBezTo>
                <a:cubicBezTo>
                  <a:pt x="3820" y="8285"/>
                  <a:pt x="3853" y="8260"/>
                  <a:pt x="3845" y="8310"/>
                </a:cubicBezTo>
              </a:path>
              <a:path w="1092" h="2531">
                <a:moveTo>
                  <a:pt x="2927" y="9128"/>
                </a:moveTo>
                <a:cubicBezTo>
                  <a:pt x="3209" y="9108"/>
                  <a:pt x="3486" y="9103"/>
                  <a:pt x="3770" y="9103"/>
                </a:cubicBezTo>
                <a:cubicBezTo>
                  <a:pt x="3853" y="9103"/>
                  <a:pt x="3935" y="9103"/>
                  <a:pt x="4018" y="9103"/>
                </a:cubicBezTo>
              </a:path>
              <a:path w="1092" h="2531">
                <a:moveTo>
                  <a:pt x="3373" y="9550"/>
                </a:moveTo>
                <a:cubicBezTo>
                  <a:pt x="3389" y="9799"/>
                  <a:pt x="3416" y="10045"/>
                  <a:pt x="3423" y="10294"/>
                </a:cubicBezTo>
                <a:cubicBezTo>
                  <a:pt x="3423" y="10345"/>
                  <a:pt x="3417" y="10328"/>
                  <a:pt x="3398" y="10220"/>
                </a:cubicBezTo>
              </a:path>
              <a:path w="1092" h="2531">
                <a:moveTo>
                  <a:pt x="3001" y="9475"/>
                </a:moveTo>
                <a:cubicBezTo>
                  <a:pt x="3146" y="9452"/>
                  <a:pt x="3700" y="9296"/>
                  <a:pt x="3721" y="9575"/>
                </a:cubicBezTo>
                <a:cubicBezTo>
                  <a:pt x="3735" y="9753"/>
                  <a:pt x="3536" y="9802"/>
                  <a:pt x="3423" y="9847"/>
                </a:cubicBezTo>
                <a:cubicBezTo>
                  <a:pt x="3415" y="9855"/>
                  <a:pt x="3406" y="9864"/>
                  <a:pt x="3398" y="9872"/>
                </a:cubicBezTo>
                <a:cubicBezTo>
                  <a:pt x="3485" y="9814"/>
                  <a:pt x="3754" y="9663"/>
                  <a:pt x="3795" y="9872"/>
                </a:cubicBezTo>
                <a:cubicBezTo>
                  <a:pt x="3834" y="10071"/>
                  <a:pt x="3568" y="10238"/>
                  <a:pt x="3398" y="10244"/>
                </a:cubicBezTo>
                <a:cubicBezTo>
                  <a:pt x="3373" y="10236"/>
                  <a:pt x="3349" y="10228"/>
                  <a:pt x="3324" y="102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51080" y="3786120"/>
            <a:ext cx="17280" cy="250920"/>
          </a:xfrm>
          <a:custGeom>
            <a:avLst/>
            <a:gdLst/>
            <a:ahLst/>
            <a:rect l="l" t="t" r="r" b="b"/>
            <a:pathLst>
              <a:path w="50" h="696">
                <a:moveTo>
                  <a:pt x="6300" y="10517"/>
                </a:moveTo>
                <a:cubicBezTo>
                  <a:pt x="6300" y="10677"/>
                  <a:pt x="6296" y="10829"/>
                  <a:pt x="6276" y="10988"/>
                </a:cubicBezTo>
                <a:cubicBezTo>
                  <a:pt x="6265" y="11077"/>
                  <a:pt x="6251" y="11130"/>
                  <a:pt x="6251" y="112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94000" y="3821040"/>
            <a:ext cx="204840" cy="243000"/>
          </a:xfrm>
          <a:custGeom>
            <a:avLst/>
            <a:gdLst/>
            <a:ahLst/>
            <a:rect l="l" t="t" r="r" b="b"/>
            <a:pathLst>
              <a:path w="571" h="671">
                <a:moveTo>
                  <a:pt x="6772" y="10666"/>
                </a:moveTo>
                <a:cubicBezTo>
                  <a:pt x="6772" y="10638"/>
                  <a:pt x="6774" y="10627"/>
                  <a:pt x="6796" y="10616"/>
                </a:cubicBezTo>
                <a:cubicBezTo>
                  <a:pt x="6773" y="10687"/>
                  <a:pt x="6732" y="10768"/>
                  <a:pt x="6697" y="10840"/>
                </a:cubicBezTo>
                <a:cubicBezTo>
                  <a:pt x="6660" y="10917"/>
                  <a:pt x="6664" y="10964"/>
                  <a:pt x="6672" y="11038"/>
                </a:cubicBezTo>
                <a:cubicBezTo>
                  <a:pt x="6677" y="11086"/>
                  <a:pt x="6655" y="11129"/>
                  <a:pt x="6697" y="11162"/>
                </a:cubicBezTo>
                <a:cubicBezTo>
                  <a:pt x="6780" y="11227"/>
                  <a:pt x="6845" y="11237"/>
                  <a:pt x="6945" y="11237"/>
                </a:cubicBezTo>
                <a:cubicBezTo>
                  <a:pt x="6996" y="11237"/>
                  <a:pt x="7055" y="11218"/>
                  <a:pt x="7094" y="11187"/>
                </a:cubicBezTo>
                <a:cubicBezTo>
                  <a:pt x="7133" y="11156"/>
                  <a:pt x="7177" y="11111"/>
                  <a:pt x="7193" y="11063"/>
                </a:cubicBezTo>
                <a:cubicBezTo>
                  <a:pt x="7202" y="11037"/>
                  <a:pt x="7241" y="10946"/>
                  <a:pt x="7218" y="10914"/>
                </a:cubicBezTo>
                <a:cubicBezTo>
                  <a:pt x="7207" y="10898"/>
                  <a:pt x="7131" y="10869"/>
                  <a:pt x="7094" y="10864"/>
                </a:cubicBezTo>
                <a:cubicBezTo>
                  <a:pt x="7024" y="10855"/>
                  <a:pt x="6972" y="10858"/>
                  <a:pt x="6945" y="10914"/>
                </a:cubicBezTo>
                <a:cubicBezTo>
                  <a:pt x="6921" y="10964"/>
                  <a:pt x="6921" y="10986"/>
                  <a:pt x="6921" y="11038"/>
                </a:cubicBezTo>
                <a:cubicBezTo>
                  <a:pt x="6921" y="11105"/>
                  <a:pt x="6939" y="11156"/>
                  <a:pt x="6945" y="11212"/>
                </a:cubicBezTo>
                <a:cubicBezTo>
                  <a:pt x="6950" y="11257"/>
                  <a:pt x="6929" y="11272"/>
                  <a:pt x="6970" y="112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224000" y="3840120"/>
            <a:ext cx="1419120" cy="1054080"/>
          </a:xfrm>
          <a:custGeom>
            <a:avLst/>
            <a:gdLst/>
            <a:ahLst/>
            <a:rect l="l" t="t" r="r" b="b"/>
            <a:pathLst>
              <a:path w="3945" h="2928">
                <a:moveTo>
                  <a:pt x="5928" y="11881"/>
                </a:moveTo>
                <a:cubicBezTo>
                  <a:pt x="6026" y="11823"/>
                  <a:pt x="6125" y="11679"/>
                  <a:pt x="6276" y="11683"/>
                </a:cubicBezTo>
                <a:cubicBezTo>
                  <a:pt x="6309" y="11700"/>
                  <a:pt x="6342" y="11716"/>
                  <a:pt x="6375" y="11733"/>
                </a:cubicBezTo>
                <a:cubicBezTo>
                  <a:pt x="6404" y="11921"/>
                  <a:pt x="6333" y="11957"/>
                  <a:pt x="6176" y="12055"/>
                </a:cubicBezTo>
                <a:cubicBezTo>
                  <a:pt x="5971" y="12029"/>
                  <a:pt x="6332" y="12014"/>
                  <a:pt x="6375" y="12030"/>
                </a:cubicBezTo>
                <a:cubicBezTo>
                  <a:pt x="6416" y="12055"/>
                  <a:pt x="6458" y="12080"/>
                  <a:pt x="6499" y="12105"/>
                </a:cubicBezTo>
                <a:cubicBezTo>
                  <a:pt x="6434" y="12324"/>
                  <a:pt x="6280" y="12422"/>
                  <a:pt x="6028" y="12427"/>
                </a:cubicBezTo>
                <a:cubicBezTo>
                  <a:pt x="5995" y="12419"/>
                  <a:pt x="5961" y="12410"/>
                  <a:pt x="5928" y="12402"/>
                </a:cubicBezTo>
              </a:path>
              <a:path w="3945" h="2928">
                <a:moveTo>
                  <a:pt x="5730" y="12601"/>
                </a:moveTo>
                <a:cubicBezTo>
                  <a:pt x="6102" y="12585"/>
                  <a:pt x="6474" y="12562"/>
                  <a:pt x="6846" y="12551"/>
                </a:cubicBezTo>
                <a:cubicBezTo>
                  <a:pt x="6954" y="12548"/>
                  <a:pt x="7196" y="12542"/>
                  <a:pt x="7094" y="12576"/>
                </a:cubicBezTo>
              </a:path>
              <a:path w="3945" h="2928">
                <a:moveTo>
                  <a:pt x="6300" y="12874"/>
                </a:moveTo>
                <a:cubicBezTo>
                  <a:pt x="6327" y="12745"/>
                  <a:pt x="6071" y="12759"/>
                  <a:pt x="5978" y="12799"/>
                </a:cubicBezTo>
                <a:cubicBezTo>
                  <a:pt x="5866" y="12888"/>
                  <a:pt x="5832" y="12907"/>
                  <a:pt x="5804" y="12998"/>
                </a:cubicBezTo>
                <a:cubicBezTo>
                  <a:pt x="5958" y="13202"/>
                  <a:pt x="6284" y="13222"/>
                  <a:pt x="6400" y="13444"/>
                </a:cubicBezTo>
                <a:cubicBezTo>
                  <a:pt x="6392" y="13477"/>
                  <a:pt x="6383" y="13510"/>
                  <a:pt x="6375" y="13543"/>
                </a:cubicBezTo>
                <a:cubicBezTo>
                  <a:pt x="6171" y="13602"/>
                  <a:pt x="5917" y="13629"/>
                  <a:pt x="6102" y="13320"/>
                </a:cubicBezTo>
                <a:cubicBezTo>
                  <a:pt x="6150" y="13240"/>
                  <a:pt x="6336" y="12984"/>
                  <a:pt x="6400" y="12923"/>
                </a:cubicBezTo>
                <a:cubicBezTo>
                  <a:pt x="6418" y="12906"/>
                  <a:pt x="6424" y="12948"/>
                  <a:pt x="6400" y="12948"/>
                </a:cubicBezTo>
              </a:path>
              <a:path w="3945" h="2928">
                <a:moveTo>
                  <a:pt x="3795" y="10740"/>
                </a:moveTo>
                <a:cubicBezTo>
                  <a:pt x="3795" y="10791"/>
                  <a:pt x="3763" y="10666"/>
                  <a:pt x="3696" y="10666"/>
                </a:cubicBezTo>
                <a:cubicBezTo>
                  <a:pt x="3531" y="10666"/>
                  <a:pt x="3471" y="10775"/>
                  <a:pt x="3423" y="10914"/>
                </a:cubicBezTo>
                <a:cubicBezTo>
                  <a:pt x="3378" y="11045"/>
                  <a:pt x="3365" y="11187"/>
                  <a:pt x="3497" y="11261"/>
                </a:cubicBezTo>
                <a:cubicBezTo>
                  <a:pt x="3599" y="11318"/>
                  <a:pt x="3758" y="11279"/>
                  <a:pt x="3845" y="11212"/>
                </a:cubicBezTo>
                <a:cubicBezTo>
                  <a:pt x="3845" y="11187"/>
                  <a:pt x="3845" y="11179"/>
                  <a:pt x="3870" y="11187"/>
                </a:cubicBezTo>
              </a:path>
              <a:path w="3945" h="2928">
                <a:moveTo>
                  <a:pt x="4564" y="10889"/>
                </a:moveTo>
                <a:cubicBezTo>
                  <a:pt x="4647" y="10889"/>
                  <a:pt x="4729" y="10889"/>
                  <a:pt x="4812" y="10889"/>
                </a:cubicBezTo>
              </a:path>
              <a:path w="3945" h="2928">
                <a:moveTo>
                  <a:pt x="4589" y="11088"/>
                </a:moveTo>
                <a:cubicBezTo>
                  <a:pt x="4663" y="11088"/>
                  <a:pt x="4738" y="11088"/>
                  <a:pt x="4812" y="11088"/>
                </a:cubicBezTo>
              </a:path>
              <a:path w="3945" h="2928">
                <a:moveTo>
                  <a:pt x="5159" y="11485"/>
                </a:moveTo>
                <a:cubicBezTo>
                  <a:pt x="5350" y="11408"/>
                  <a:pt x="5575" y="11391"/>
                  <a:pt x="5779" y="11385"/>
                </a:cubicBezTo>
                <a:cubicBezTo>
                  <a:pt x="6269" y="11370"/>
                  <a:pt x="6783" y="11369"/>
                  <a:pt x="7268" y="11435"/>
                </a:cubicBezTo>
                <a:cubicBezTo>
                  <a:pt x="7308" y="11455"/>
                  <a:pt x="7314" y="11464"/>
                  <a:pt x="7342" y="114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670040" y="3241800"/>
            <a:ext cx="3224160" cy="2813040"/>
          </a:xfrm>
          <a:custGeom>
            <a:avLst/>
            <a:gdLst/>
            <a:ahLst/>
            <a:rect l="l" t="t" r="r" b="b"/>
            <a:pathLst>
              <a:path w="8956" h="7815">
                <a:moveTo>
                  <a:pt x="6226" y="9103"/>
                </a:moveTo>
                <a:cubicBezTo>
                  <a:pt x="6565" y="9058"/>
                  <a:pt x="6901" y="9019"/>
                  <a:pt x="7243" y="9004"/>
                </a:cubicBezTo>
              </a:path>
              <a:path w="8956" h="7815">
                <a:moveTo>
                  <a:pt x="4638" y="12849"/>
                </a:moveTo>
                <a:cubicBezTo>
                  <a:pt x="4781" y="12825"/>
                  <a:pt x="4826" y="12819"/>
                  <a:pt x="4911" y="12774"/>
                </a:cubicBezTo>
              </a:path>
              <a:path w="8956" h="7815">
                <a:moveTo>
                  <a:pt x="4911" y="12774"/>
                </a:moveTo>
                <a:lnTo>
                  <a:pt x="4911" y="12774"/>
                </a:lnTo>
              </a:path>
              <a:path w="8956" h="7815">
                <a:moveTo>
                  <a:pt x="5556" y="10641"/>
                </a:moveTo>
                <a:cubicBezTo>
                  <a:pt x="5671" y="10627"/>
                  <a:pt x="5849" y="10602"/>
                  <a:pt x="5755" y="10790"/>
                </a:cubicBezTo>
                <a:cubicBezTo>
                  <a:pt x="5734" y="10832"/>
                  <a:pt x="5693" y="10855"/>
                  <a:pt x="5655" y="10864"/>
                </a:cubicBezTo>
              </a:path>
              <a:path w="8956" h="7815">
                <a:moveTo>
                  <a:pt x="5680" y="11187"/>
                </a:moveTo>
                <a:lnTo>
                  <a:pt x="5680" y="11187"/>
                </a:lnTo>
              </a:path>
              <a:path w="8956" h="7815">
                <a:moveTo>
                  <a:pt x="9823" y="16371"/>
                </a:moveTo>
                <a:cubicBezTo>
                  <a:pt x="9831" y="16371"/>
                  <a:pt x="9839" y="16371"/>
                  <a:pt x="9847" y="16371"/>
                </a:cubicBezTo>
              </a:path>
              <a:path w="8956" h="7815">
                <a:moveTo>
                  <a:pt x="9847" y="16371"/>
                </a:moveTo>
                <a:lnTo>
                  <a:pt x="9847" y="16371"/>
                </a:lnTo>
              </a:path>
              <a:path w="8956" h="7815">
                <a:moveTo>
                  <a:pt x="10542" y="16396"/>
                </a:moveTo>
                <a:cubicBezTo>
                  <a:pt x="10516" y="16554"/>
                  <a:pt x="10512" y="16666"/>
                  <a:pt x="10567" y="16818"/>
                </a:cubicBezTo>
              </a:path>
              <a:path w="8956" h="7815">
                <a:moveTo>
                  <a:pt x="13543" y="15602"/>
                </a:moveTo>
                <a:cubicBezTo>
                  <a:pt x="13584" y="15582"/>
                  <a:pt x="13600" y="15563"/>
                  <a:pt x="13593" y="156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375160" y="1393920"/>
            <a:ext cx="339840" cy="320760"/>
          </a:xfrm>
          <a:custGeom>
            <a:avLst/>
            <a:gdLst/>
            <a:ahLst/>
            <a:rect l="l" t="t" r="r" b="b"/>
            <a:pathLst>
              <a:path w="944" h="893">
                <a:moveTo>
                  <a:pt x="15106" y="4539"/>
                </a:moveTo>
                <a:cubicBezTo>
                  <a:pt x="15046" y="4527"/>
                  <a:pt x="15023" y="4501"/>
                  <a:pt x="14982" y="4564"/>
                </a:cubicBezTo>
                <a:cubicBezTo>
                  <a:pt x="14931" y="4644"/>
                  <a:pt x="14943" y="4677"/>
                  <a:pt x="14957" y="4762"/>
                </a:cubicBezTo>
                <a:cubicBezTo>
                  <a:pt x="15059" y="4740"/>
                  <a:pt x="15136" y="4690"/>
                  <a:pt x="15106" y="4564"/>
                </a:cubicBezTo>
                <a:cubicBezTo>
                  <a:pt x="15091" y="4501"/>
                  <a:pt x="15040" y="4529"/>
                  <a:pt x="15007" y="4539"/>
                </a:cubicBezTo>
              </a:path>
              <a:path w="944" h="893">
                <a:moveTo>
                  <a:pt x="15329" y="4341"/>
                </a:moveTo>
                <a:cubicBezTo>
                  <a:pt x="15266" y="4303"/>
                  <a:pt x="15203" y="4319"/>
                  <a:pt x="15180" y="4415"/>
                </a:cubicBezTo>
                <a:cubicBezTo>
                  <a:pt x="15148" y="4551"/>
                  <a:pt x="15235" y="4617"/>
                  <a:pt x="15329" y="4490"/>
                </a:cubicBezTo>
                <a:cubicBezTo>
                  <a:pt x="15385" y="4414"/>
                  <a:pt x="15286" y="4324"/>
                  <a:pt x="15329" y="4366"/>
                </a:cubicBezTo>
                <a:cubicBezTo>
                  <a:pt x="15358" y="4394"/>
                  <a:pt x="15368" y="4406"/>
                  <a:pt x="15404" y="4415"/>
                </a:cubicBezTo>
              </a:path>
              <a:path w="944" h="893">
                <a:moveTo>
                  <a:pt x="15329" y="3894"/>
                </a:moveTo>
                <a:cubicBezTo>
                  <a:pt x="15385" y="4013"/>
                  <a:pt x="15414" y="4196"/>
                  <a:pt x="15503" y="4291"/>
                </a:cubicBezTo>
                <a:cubicBezTo>
                  <a:pt x="15537" y="4328"/>
                  <a:pt x="15590" y="4237"/>
                  <a:pt x="15602" y="4217"/>
                </a:cubicBezTo>
              </a:path>
              <a:path w="944" h="893">
                <a:moveTo>
                  <a:pt x="15255" y="4291"/>
                </a:moveTo>
                <a:cubicBezTo>
                  <a:pt x="15319" y="4200"/>
                  <a:pt x="15424" y="4046"/>
                  <a:pt x="15528" y="3994"/>
                </a:cubicBezTo>
                <a:cubicBezTo>
                  <a:pt x="15528" y="4002"/>
                  <a:pt x="15528" y="4010"/>
                  <a:pt x="15528" y="4018"/>
                </a:cubicBezTo>
              </a:path>
              <a:path w="944" h="893">
                <a:moveTo>
                  <a:pt x="15652" y="3870"/>
                </a:moveTo>
                <a:cubicBezTo>
                  <a:pt x="15652" y="3927"/>
                  <a:pt x="15621" y="3946"/>
                  <a:pt x="15602" y="3994"/>
                </a:cubicBezTo>
                <a:cubicBezTo>
                  <a:pt x="15703" y="3994"/>
                  <a:pt x="15779" y="3979"/>
                  <a:pt x="15875" y="3994"/>
                </a:cubicBezTo>
                <a:cubicBezTo>
                  <a:pt x="15854" y="4115"/>
                  <a:pt x="15810" y="4107"/>
                  <a:pt x="15701" y="41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823000" y="1438200"/>
            <a:ext cx="293760" cy="293760"/>
          </a:xfrm>
          <a:custGeom>
            <a:avLst/>
            <a:gdLst/>
            <a:ahLst/>
            <a:rect l="l" t="t" r="r" b="b"/>
            <a:pathLst>
              <a:path w="819" h="819">
                <a:moveTo>
                  <a:pt x="16396" y="4663"/>
                </a:moveTo>
                <a:cubicBezTo>
                  <a:pt x="16315" y="4617"/>
                  <a:pt x="16309" y="4601"/>
                  <a:pt x="16222" y="4614"/>
                </a:cubicBezTo>
                <a:cubicBezTo>
                  <a:pt x="16157" y="4624"/>
                  <a:pt x="16139" y="4791"/>
                  <a:pt x="16222" y="4812"/>
                </a:cubicBezTo>
                <a:cubicBezTo>
                  <a:pt x="16296" y="4831"/>
                  <a:pt x="16292" y="4701"/>
                  <a:pt x="16297" y="4663"/>
                </a:cubicBezTo>
                <a:cubicBezTo>
                  <a:pt x="16338" y="4705"/>
                  <a:pt x="16363" y="4738"/>
                  <a:pt x="16396" y="4688"/>
                </a:cubicBezTo>
              </a:path>
              <a:path w="819" h="819">
                <a:moveTo>
                  <a:pt x="16421" y="4514"/>
                </a:moveTo>
                <a:cubicBezTo>
                  <a:pt x="16427" y="4530"/>
                  <a:pt x="16470" y="4670"/>
                  <a:pt x="16446" y="4614"/>
                </a:cubicBezTo>
                <a:cubicBezTo>
                  <a:pt x="16413" y="4535"/>
                  <a:pt x="16440" y="4501"/>
                  <a:pt x="16446" y="4415"/>
                </a:cubicBezTo>
                <a:cubicBezTo>
                  <a:pt x="16446" y="4407"/>
                  <a:pt x="16446" y="4398"/>
                  <a:pt x="16446" y="4390"/>
                </a:cubicBezTo>
              </a:path>
              <a:path w="819" h="819">
                <a:moveTo>
                  <a:pt x="16669" y="4316"/>
                </a:moveTo>
                <a:cubicBezTo>
                  <a:pt x="16639" y="4286"/>
                  <a:pt x="16625" y="4275"/>
                  <a:pt x="16594" y="4266"/>
                </a:cubicBezTo>
                <a:cubicBezTo>
                  <a:pt x="16532" y="4367"/>
                  <a:pt x="16489" y="4434"/>
                  <a:pt x="16570" y="4514"/>
                </a:cubicBezTo>
                <a:cubicBezTo>
                  <a:pt x="16711" y="4450"/>
                  <a:pt x="16679" y="4415"/>
                  <a:pt x="16694" y="4242"/>
                </a:cubicBezTo>
              </a:path>
              <a:path w="819" h="819">
                <a:moveTo>
                  <a:pt x="16495" y="3994"/>
                </a:moveTo>
                <a:cubicBezTo>
                  <a:pt x="16570" y="4109"/>
                  <a:pt x="16637" y="4231"/>
                  <a:pt x="16718" y="4341"/>
                </a:cubicBezTo>
              </a:path>
              <a:path w="819" h="819">
                <a:moveTo>
                  <a:pt x="16867" y="3994"/>
                </a:moveTo>
                <a:cubicBezTo>
                  <a:pt x="16816" y="4045"/>
                  <a:pt x="16798" y="4065"/>
                  <a:pt x="16793" y="4118"/>
                </a:cubicBezTo>
                <a:cubicBezTo>
                  <a:pt x="16860" y="4131"/>
                  <a:pt x="16925" y="4145"/>
                  <a:pt x="16991" y="4167"/>
                </a:cubicBezTo>
                <a:cubicBezTo>
                  <a:pt x="16968" y="4310"/>
                  <a:pt x="16980" y="4287"/>
                  <a:pt x="16842" y="43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8880" y="3394080"/>
            <a:ext cx="98280" cy="106200"/>
          </a:xfrm>
          <a:custGeom>
            <a:avLst/>
            <a:gdLst/>
            <a:ahLst/>
            <a:rect l="l" t="t" r="r" b="b"/>
            <a:pathLst>
              <a:path w="273" h="298">
                <a:moveTo>
                  <a:pt x="11981" y="9426"/>
                </a:moveTo>
                <a:cubicBezTo>
                  <a:pt x="11861" y="9545"/>
                  <a:pt x="11869" y="9540"/>
                  <a:pt x="11906" y="9699"/>
                </a:cubicBezTo>
                <a:cubicBezTo>
                  <a:pt x="11995" y="9692"/>
                  <a:pt x="12300" y="9492"/>
                  <a:pt x="12055" y="9426"/>
                </a:cubicBezTo>
                <a:cubicBezTo>
                  <a:pt x="12014" y="9434"/>
                  <a:pt x="11972" y="9443"/>
                  <a:pt x="11931" y="945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62240" y="3268800"/>
            <a:ext cx="608040" cy="276120"/>
          </a:xfrm>
          <a:custGeom>
            <a:avLst/>
            <a:gdLst/>
            <a:ahLst/>
            <a:rect l="l" t="t" r="r" b="b"/>
            <a:pathLst>
              <a:path w="1688" h="769">
                <a:moveTo>
                  <a:pt x="11311" y="9525"/>
                </a:moveTo>
                <a:cubicBezTo>
                  <a:pt x="11312" y="9532"/>
                  <a:pt x="11424" y="9942"/>
                  <a:pt x="11336" y="9798"/>
                </a:cubicBezTo>
                <a:cubicBezTo>
                  <a:pt x="11288" y="9474"/>
                  <a:pt x="11239" y="9293"/>
                  <a:pt x="11534" y="9153"/>
                </a:cubicBezTo>
                <a:cubicBezTo>
                  <a:pt x="11579" y="9276"/>
                  <a:pt x="11403" y="9431"/>
                  <a:pt x="11534" y="9426"/>
                </a:cubicBezTo>
                <a:cubicBezTo>
                  <a:pt x="11875" y="9412"/>
                  <a:pt x="11669" y="9688"/>
                  <a:pt x="11559" y="9823"/>
                </a:cubicBezTo>
                <a:cubicBezTo>
                  <a:pt x="11418" y="9823"/>
                  <a:pt x="11369" y="9830"/>
                  <a:pt x="11385" y="9699"/>
                </a:cubicBezTo>
              </a:path>
              <a:path w="1688" h="769">
                <a:moveTo>
                  <a:pt x="12229" y="9426"/>
                </a:moveTo>
                <a:cubicBezTo>
                  <a:pt x="12195" y="9531"/>
                  <a:pt x="12189" y="9798"/>
                  <a:pt x="12303" y="9550"/>
                </a:cubicBezTo>
                <a:cubicBezTo>
                  <a:pt x="12322" y="9456"/>
                  <a:pt x="12352" y="9436"/>
                  <a:pt x="12303" y="9401"/>
                </a:cubicBezTo>
                <a:cubicBezTo>
                  <a:pt x="12330" y="9600"/>
                  <a:pt x="12485" y="9656"/>
                  <a:pt x="12551" y="9401"/>
                </a:cubicBezTo>
                <a:cubicBezTo>
                  <a:pt x="12582" y="9282"/>
                  <a:pt x="12538" y="9151"/>
                  <a:pt x="12477" y="9079"/>
                </a:cubicBezTo>
                <a:cubicBezTo>
                  <a:pt x="12506" y="9205"/>
                  <a:pt x="12538" y="9327"/>
                  <a:pt x="12576" y="9451"/>
                </a:cubicBezTo>
              </a:path>
              <a:path w="1688" h="769">
                <a:moveTo>
                  <a:pt x="12328" y="9277"/>
                </a:moveTo>
                <a:cubicBezTo>
                  <a:pt x="12478" y="9230"/>
                  <a:pt x="12626" y="9181"/>
                  <a:pt x="12774" y="9128"/>
                </a:cubicBezTo>
                <a:cubicBezTo>
                  <a:pt x="12718" y="9185"/>
                  <a:pt x="12614" y="9234"/>
                  <a:pt x="12725" y="9277"/>
                </a:cubicBezTo>
                <a:cubicBezTo>
                  <a:pt x="13059" y="9408"/>
                  <a:pt x="12974" y="9482"/>
                  <a:pt x="12700" y="96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062680" y="3017880"/>
            <a:ext cx="1108080" cy="849240"/>
          </a:xfrm>
          <a:custGeom>
            <a:avLst/>
            <a:gdLst/>
            <a:ahLst/>
            <a:rect l="l" t="t" r="r" b="b"/>
            <a:pathLst>
              <a:path w="3077" h="2357">
                <a:moveTo>
                  <a:pt x="15453" y="9723"/>
                </a:moveTo>
                <a:cubicBezTo>
                  <a:pt x="15518" y="9702"/>
                  <a:pt x="15471" y="9699"/>
                  <a:pt x="15602" y="9699"/>
                </a:cubicBezTo>
                <a:cubicBezTo>
                  <a:pt x="15676" y="9699"/>
                  <a:pt x="15685" y="9699"/>
                  <a:pt x="15726" y="9699"/>
                </a:cubicBezTo>
              </a:path>
              <a:path w="3077" h="2357">
                <a:moveTo>
                  <a:pt x="15478" y="9872"/>
                </a:moveTo>
                <a:cubicBezTo>
                  <a:pt x="15529" y="9885"/>
                  <a:pt x="15565" y="9897"/>
                  <a:pt x="15627" y="9897"/>
                </a:cubicBezTo>
                <a:cubicBezTo>
                  <a:pt x="15652" y="9897"/>
                  <a:pt x="15660" y="9897"/>
                  <a:pt x="15677" y="9897"/>
                </a:cubicBezTo>
              </a:path>
              <a:path w="3077" h="2357">
                <a:moveTo>
                  <a:pt x="16470" y="9054"/>
                </a:moveTo>
                <a:cubicBezTo>
                  <a:pt x="16453" y="9000"/>
                  <a:pt x="16452" y="9041"/>
                  <a:pt x="16470" y="9004"/>
                </a:cubicBezTo>
                <a:cubicBezTo>
                  <a:pt x="16496" y="8949"/>
                  <a:pt x="16359" y="9135"/>
                  <a:pt x="16346" y="9153"/>
                </a:cubicBezTo>
                <a:cubicBezTo>
                  <a:pt x="16267" y="9263"/>
                  <a:pt x="16245" y="9338"/>
                  <a:pt x="16197" y="9451"/>
                </a:cubicBezTo>
                <a:cubicBezTo>
                  <a:pt x="16180" y="9491"/>
                  <a:pt x="16146" y="9527"/>
                  <a:pt x="16197" y="9575"/>
                </a:cubicBezTo>
                <a:cubicBezTo>
                  <a:pt x="16278" y="9651"/>
                  <a:pt x="16389" y="9668"/>
                  <a:pt x="16495" y="9649"/>
                </a:cubicBezTo>
                <a:cubicBezTo>
                  <a:pt x="16588" y="9632"/>
                  <a:pt x="16639" y="9543"/>
                  <a:pt x="16669" y="9475"/>
                </a:cubicBezTo>
                <a:cubicBezTo>
                  <a:pt x="16689" y="9435"/>
                  <a:pt x="16698" y="9429"/>
                  <a:pt x="16694" y="9401"/>
                </a:cubicBezTo>
                <a:cubicBezTo>
                  <a:pt x="16567" y="9359"/>
                  <a:pt x="16506" y="9314"/>
                  <a:pt x="16446" y="9451"/>
                </a:cubicBezTo>
                <a:cubicBezTo>
                  <a:pt x="16407" y="9541"/>
                  <a:pt x="16438" y="9574"/>
                  <a:pt x="16446" y="9649"/>
                </a:cubicBezTo>
                <a:cubicBezTo>
                  <a:pt x="16446" y="9657"/>
                  <a:pt x="16446" y="9666"/>
                  <a:pt x="16446" y="9674"/>
                </a:cubicBezTo>
              </a:path>
              <a:path w="3077" h="2357">
                <a:moveTo>
                  <a:pt x="14387" y="9103"/>
                </a:moveTo>
                <a:cubicBezTo>
                  <a:pt x="14457" y="9054"/>
                  <a:pt x="14566" y="8978"/>
                  <a:pt x="14660" y="9004"/>
                </a:cubicBezTo>
                <a:cubicBezTo>
                  <a:pt x="14835" y="9051"/>
                  <a:pt x="14614" y="9273"/>
                  <a:pt x="14585" y="9302"/>
                </a:cubicBezTo>
                <a:cubicBezTo>
                  <a:pt x="14569" y="9318"/>
                  <a:pt x="14552" y="9335"/>
                  <a:pt x="14536" y="9351"/>
                </a:cubicBezTo>
                <a:cubicBezTo>
                  <a:pt x="14453" y="9325"/>
                  <a:pt x="14589" y="9321"/>
                  <a:pt x="14610" y="9327"/>
                </a:cubicBezTo>
                <a:cubicBezTo>
                  <a:pt x="14731" y="9375"/>
                  <a:pt x="14770" y="9389"/>
                  <a:pt x="14833" y="9451"/>
                </a:cubicBezTo>
                <a:cubicBezTo>
                  <a:pt x="14779" y="9667"/>
                  <a:pt x="14625" y="9722"/>
                  <a:pt x="14387" y="9723"/>
                </a:cubicBezTo>
                <a:cubicBezTo>
                  <a:pt x="14326" y="9723"/>
                  <a:pt x="14450" y="9699"/>
                  <a:pt x="14511" y="9699"/>
                </a:cubicBezTo>
              </a:path>
              <a:path w="3077" h="2357">
                <a:moveTo>
                  <a:pt x="14064" y="9922"/>
                </a:moveTo>
                <a:cubicBezTo>
                  <a:pt x="14378" y="9869"/>
                  <a:pt x="14713" y="9792"/>
                  <a:pt x="15032" y="9798"/>
                </a:cubicBezTo>
                <a:cubicBezTo>
                  <a:pt x="15065" y="9806"/>
                  <a:pt x="15098" y="9815"/>
                  <a:pt x="15131" y="9823"/>
                </a:cubicBezTo>
              </a:path>
              <a:path w="3077" h="2357">
                <a:moveTo>
                  <a:pt x="14784" y="10170"/>
                </a:moveTo>
                <a:cubicBezTo>
                  <a:pt x="14586" y="10120"/>
                  <a:pt x="14502" y="10184"/>
                  <a:pt x="14337" y="10294"/>
                </a:cubicBezTo>
                <a:cubicBezTo>
                  <a:pt x="14378" y="10365"/>
                  <a:pt x="14716" y="10537"/>
                  <a:pt x="14709" y="10592"/>
                </a:cubicBezTo>
                <a:cubicBezTo>
                  <a:pt x="14622" y="10701"/>
                  <a:pt x="14607" y="10738"/>
                  <a:pt x="14511" y="10740"/>
                </a:cubicBezTo>
                <a:cubicBezTo>
                  <a:pt x="14448" y="10492"/>
                  <a:pt x="14592" y="10421"/>
                  <a:pt x="14734" y="10220"/>
                </a:cubicBezTo>
                <a:cubicBezTo>
                  <a:pt x="14734" y="10212"/>
                  <a:pt x="14734" y="10203"/>
                  <a:pt x="14734" y="10195"/>
                </a:cubicBezTo>
              </a:path>
              <a:path w="3077" h="2357">
                <a:moveTo>
                  <a:pt x="14957" y="8731"/>
                </a:moveTo>
                <a:cubicBezTo>
                  <a:pt x="14989" y="8761"/>
                  <a:pt x="15154" y="8939"/>
                  <a:pt x="15156" y="8880"/>
                </a:cubicBezTo>
                <a:cubicBezTo>
                  <a:pt x="15156" y="8839"/>
                  <a:pt x="15156" y="8797"/>
                  <a:pt x="15156" y="8756"/>
                </a:cubicBezTo>
              </a:path>
              <a:path w="3077" h="2357">
                <a:moveTo>
                  <a:pt x="15131" y="8582"/>
                </a:moveTo>
                <a:cubicBezTo>
                  <a:pt x="15079" y="8745"/>
                  <a:pt x="15035" y="8921"/>
                  <a:pt x="14982" y="9079"/>
                </a:cubicBezTo>
                <a:cubicBezTo>
                  <a:pt x="14982" y="9071"/>
                  <a:pt x="14982" y="9062"/>
                  <a:pt x="14982" y="9054"/>
                </a:cubicBezTo>
              </a:path>
              <a:path w="3077" h="2357">
                <a:moveTo>
                  <a:pt x="15329" y="8458"/>
                </a:moveTo>
                <a:cubicBezTo>
                  <a:pt x="15349" y="8420"/>
                  <a:pt x="15402" y="8397"/>
                  <a:pt x="15453" y="8384"/>
                </a:cubicBezTo>
                <a:cubicBezTo>
                  <a:pt x="15478" y="8384"/>
                  <a:pt x="15486" y="8384"/>
                  <a:pt x="15503" y="8384"/>
                </a:cubicBezTo>
                <a:cubicBezTo>
                  <a:pt x="15491" y="8515"/>
                  <a:pt x="15442" y="8609"/>
                  <a:pt x="15404" y="8731"/>
                </a:cubicBezTo>
                <a:cubicBezTo>
                  <a:pt x="15404" y="8739"/>
                  <a:pt x="15404" y="8748"/>
                  <a:pt x="15404" y="8756"/>
                </a:cubicBezTo>
                <a:cubicBezTo>
                  <a:pt x="15456" y="8722"/>
                  <a:pt x="15647" y="8536"/>
                  <a:pt x="15677" y="8533"/>
                </a:cubicBezTo>
                <a:cubicBezTo>
                  <a:pt x="15699" y="8555"/>
                  <a:pt x="15710" y="8564"/>
                  <a:pt x="15677" y="8558"/>
                </a:cubicBezTo>
              </a:path>
              <a:path w="3077" h="2357">
                <a:moveTo>
                  <a:pt x="16297" y="9897"/>
                </a:moveTo>
                <a:cubicBezTo>
                  <a:pt x="16563" y="9875"/>
                  <a:pt x="16823" y="9872"/>
                  <a:pt x="17090" y="9872"/>
                </a:cubicBezTo>
                <a:cubicBezTo>
                  <a:pt x="17132" y="9872"/>
                  <a:pt x="17148" y="9864"/>
                  <a:pt x="17140" y="98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392800" y="3813120"/>
            <a:ext cx="55440" cy="98640"/>
          </a:xfrm>
          <a:custGeom>
            <a:avLst/>
            <a:gdLst/>
            <a:ahLst/>
            <a:rect l="l" t="t" r="r" b="b"/>
            <a:pathLst>
              <a:path w="150" h="273">
                <a:moveTo>
                  <a:pt x="14982" y="10592"/>
                </a:moveTo>
                <a:cubicBezTo>
                  <a:pt x="15057" y="10629"/>
                  <a:pt x="15064" y="10739"/>
                  <a:pt x="15106" y="10815"/>
                </a:cubicBezTo>
                <a:cubicBezTo>
                  <a:pt x="15128" y="10837"/>
                  <a:pt x="15137" y="10842"/>
                  <a:pt x="15131"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90960" y="3705120"/>
            <a:ext cx="652320" cy="243000"/>
          </a:xfrm>
          <a:custGeom>
            <a:avLst/>
            <a:gdLst/>
            <a:ahLst/>
            <a:rect l="l" t="t" r="r" b="b"/>
            <a:pathLst>
              <a:path w="1811" h="671">
                <a:moveTo>
                  <a:pt x="11286" y="10393"/>
                </a:moveTo>
                <a:cubicBezTo>
                  <a:pt x="11298" y="10429"/>
                  <a:pt x="11299" y="10429"/>
                  <a:pt x="11311" y="10393"/>
                </a:cubicBezTo>
                <a:cubicBezTo>
                  <a:pt x="11126" y="10300"/>
                  <a:pt x="11095" y="10646"/>
                  <a:pt x="11088" y="10765"/>
                </a:cubicBezTo>
                <a:cubicBezTo>
                  <a:pt x="11068" y="11116"/>
                  <a:pt x="11273" y="10905"/>
                  <a:pt x="11410" y="10815"/>
                </a:cubicBezTo>
              </a:path>
              <a:path w="1811" h="671">
                <a:moveTo>
                  <a:pt x="11609" y="10492"/>
                </a:moveTo>
                <a:cubicBezTo>
                  <a:pt x="11583" y="10531"/>
                  <a:pt x="11406" y="10864"/>
                  <a:pt x="11584" y="10815"/>
                </a:cubicBezTo>
                <a:cubicBezTo>
                  <a:pt x="11670" y="10757"/>
                  <a:pt x="11700" y="10726"/>
                  <a:pt x="11708" y="10641"/>
                </a:cubicBezTo>
                <a:cubicBezTo>
                  <a:pt x="11708" y="10633"/>
                  <a:pt x="11708" y="10624"/>
                  <a:pt x="11708" y="10616"/>
                </a:cubicBezTo>
                <a:cubicBezTo>
                  <a:pt x="11728" y="10697"/>
                  <a:pt x="11826" y="10937"/>
                  <a:pt x="11906" y="10740"/>
                </a:cubicBezTo>
                <a:cubicBezTo>
                  <a:pt x="11953" y="10624"/>
                  <a:pt x="11919" y="10533"/>
                  <a:pt x="11906" y="10418"/>
                </a:cubicBezTo>
                <a:cubicBezTo>
                  <a:pt x="11935" y="10461"/>
                  <a:pt x="12113" y="10767"/>
                  <a:pt x="12129" y="10765"/>
                </a:cubicBezTo>
                <a:cubicBezTo>
                  <a:pt x="12171" y="10749"/>
                  <a:pt x="12212" y="10732"/>
                  <a:pt x="12254" y="10716"/>
                </a:cubicBezTo>
              </a:path>
              <a:path w="1811" h="671">
                <a:moveTo>
                  <a:pt x="12427" y="10492"/>
                </a:moveTo>
                <a:cubicBezTo>
                  <a:pt x="12365" y="10520"/>
                  <a:pt x="12146" y="10710"/>
                  <a:pt x="12229" y="10815"/>
                </a:cubicBezTo>
                <a:cubicBezTo>
                  <a:pt x="12254" y="10815"/>
                  <a:pt x="12278" y="10815"/>
                  <a:pt x="12303" y="10815"/>
                </a:cubicBezTo>
                <a:cubicBezTo>
                  <a:pt x="12423" y="10609"/>
                  <a:pt x="12437" y="10553"/>
                  <a:pt x="12402" y="10319"/>
                </a:cubicBezTo>
                <a:cubicBezTo>
                  <a:pt x="12257" y="10318"/>
                  <a:pt x="12419" y="10629"/>
                  <a:pt x="12502" y="10716"/>
                </a:cubicBezTo>
                <a:cubicBezTo>
                  <a:pt x="12610" y="10769"/>
                  <a:pt x="12650" y="10779"/>
                  <a:pt x="12700" y="10666"/>
                </a:cubicBezTo>
              </a:path>
              <a:path w="1811" h="671">
                <a:moveTo>
                  <a:pt x="12750" y="10418"/>
                </a:moveTo>
                <a:cubicBezTo>
                  <a:pt x="12620" y="10561"/>
                  <a:pt x="12734" y="10562"/>
                  <a:pt x="12874" y="10666"/>
                </a:cubicBezTo>
                <a:cubicBezTo>
                  <a:pt x="12959" y="10842"/>
                  <a:pt x="12656" y="10765"/>
                  <a:pt x="12601" y="107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84880" y="3813120"/>
            <a:ext cx="196920" cy="169920"/>
          </a:xfrm>
          <a:custGeom>
            <a:avLst/>
            <a:gdLst/>
            <a:ahLst/>
            <a:rect l="l" t="t" r="r" b="b"/>
            <a:pathLst>
              <a:path w="547" h="472">
                <a:moveTo>
                  <a:pt x="15156" y="10592"/>
                </a:moveTo>
                <a:cubicBezTo>
                  <a:pt x="15128" y="10702"/>
                  <a:pt x="15059" y="10851"/>
                  <a:pt x="14982" y="10939"/>
                </a:cubicBezTo>
                <a:cubicBezTo>
                  <a:pt x="14957" y="10939"/>
                  <a:pt x="14949" y="10939"/>
                  <a:pt x="14957" y="10964"/>
                </a:cubicBezTo>
              </a:path>
              <a:path w="547" h="472">
                <a:moveTo>
                  <a:pt x="15304" y="10740"/>
                </a:moveTo>
                <a:cubicBezTo>
                  <a:pt x="15359" y="10740"/>
                  <a:pt x="15436" y="10721"/>
                  <a:pt x="15453" y="10765"/>
                </a:cubicBezTo>
                <a:cubicBezTo>
                  <a:pt x="15507" y="10904"/>
                  <a:pt x="15373" y="10957"/>
                  <a:pt x="15280" y="11038"/>
                </a:cubicBezTo>
                <a:cubicBezTo>
                  <a:pt x="15363" y="11038"/>
                  <a:pt x="15420" y="11051"/>
                  <a:pt x="15503"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57920" y="3643200"/>
            <a:ext cx="312840" cy="187560"/>
          </a:xfrm>
          <a:custGeom>
            <a:avLst/>
            <a:gdLst/>
            <a:ahLst/>
            <a:rect l="l" t="t" r="r" b="b"/>
            <a:pathLst>
              <a:path w="869" h="522">
                <a:moveTo>
                  <a:pt x="16371" y="10145"/>
                </a:moveTo>
                <a:cubicBezTo>
                  <a:pt x="16327" y="10101"/>
                  <a:pt x="16298" y="10428"/>
                  <a:pt x="16297" y="10443"/>
                </a:cubicBezTo>
                <a:cubicBezTo>
                  <a:pt x="16289" y="10562"/>
                  <a:pt x="16249" y="10726"/>
                  <a:pt x="16321" y="10542"/>
                </a:cubicBezTo>
              </a:path>
              <a:path w="869" h="522">
                <a:moveTo>
                  <a:pt x="16619" y="10120"/>
                </a:moveTo>
                <a:cubicBezTo>
                  <a:pt x="16619" y="10231"/>
                  <a:pt x="16599" y="10334"/>
                  <a:pt x="16594" y="10443"/>
                </a:cubicBezTo>
                <a:cubicBezTo>
                  <a:pt x="16591" y="10501"/>
                  <a:pt x="16590" y="10596"/>
                  <a:pt x="16669" y="10616"/>
                </a:cubicBezTo>
                <a:cubicBezTo>
                  <a:pt x="16763" y="10640"/>
                  <a:pt x="16944" y="10632"/>
                  <a:pt x="17016" y="10567"/>
                </a:cubicBezTo>
                <a:cubicBezTo>
                  <a:pt x="17064" y="10523"/>
                  <a:pt x="17097" y="10444"/>
                  <a:pt x="17140" y="10393"/>
                </a:cubicBezTo>
                <a:cubicBezTo>
                  <a:pt x="17075" y="10393"/>
                  <a:pt x="17020" y="10384"/>
                  <a:pt x="16966" y="10418"/>
                </a:cubicBezTo>
                <a:cubicBezTo>
                  <a:pt x="16882" y="10471"/>
                  <a:pt x="16850" y="10494"/>
                  <a:pt x="16842" y="10592"/>
                </a:cubicBezTo>
                <a:cubicBezTo>
                  <a:pt x="16842" y="10600"/>
                  <a:pt x="16842" y="10608"/>
                  <a:pt x="16842" y="106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76720" y="5018040"/>
            <a:ext cx="2447640" cy="1117800"/>
          </a:xfrm>
          <a:custGeom>
            <a:avLst/>
            <a:gdLst/>
            <a:ahLst/>
            <a:rect l="l" t="t" r="r" b="b"/>
            <a:pathLst>
              <a:path w="6798" h="3102">
                <a:moveTo>
                  <a:pt x="9252" y="15478"/>
                </a:moveTo>
                <a:cubicBezTo>
                  <a:pt x="9583" y="15478"/>
                  <a:pt x="10079" y="15377"/>
                  <a:pt x="10368" y="15503"/>
                </a:cubicBezTo>
              </a:path>
              <a:path w="6798" h="3102">
                <a:moveTo>
                  <a:pt x="9277" y="14560"/>
                </a:moveTo>
                <a:cubicBezTo>
                  <a:pt x="9277" y="14745"/>
                  <a:pt x="9266" y="14923"/>
                  <a:pt x="9252" y="15106"/>
                </a:cubicBezTo>
                <a:cubicBezTo>
                  <a:pt x="9249" y="15146"/>
                  <a:pt x="9252" y="15189"/>
                  <a:pt x="9252" y="15230"/>
                </a:cubicBezTo>
              </a:path>
              <a:path w="6798" h="3102">
                <a:moveTo>
                  <a:pt x="9103" y="14560"/>
                </a:moveTo>
                <a:cubicBezTo>
                  <a:pt x="9129" y="14485"/>
                  <a:pt x="9249" y="14489"/>
                  <a:pt x="9327" y="14486"/>
                </a:cubicBezTo>
                <a:cubicBezTo>
                  <a:pt x="9538" y="14477"/>
                  <a:pt x="9683" y="14486"/>
                  <a:pt x="9748" y="14709"/>
                </a:cubicBezTo>
                <a:cubicBezTo>
                  <a:pt x="9813" y="14932"/>
                  <a:pt x="9694" y="15089"/>
                  <a:pt x="9500" y="15180"/>
                </a:cubicBezTo>
                <a:cubicBezTo>
                  <a:pt x="9382" y="15236"/>
                  <a:pt x="9256" y="15255"/>
                  <a:pt x="9128" y="15255"/>
                </a:cubicBezTo>
                <a:cubicBezTo>
                  <a:pt x="9120" y="15255"/>
                  <a:pt x="9111" y="15255"/>
                  <a:pt x="9103" y="15255"/>
                </a:cubicBezTo>
              </a:path>
              <a:path w="6798" h="3102">
                <a:moveTo>
                  <a:pt x="9773" y="15900"/>
                </a:moveTo>
                <a:cubicBezTo>
                  <a:pt x="9744" y="15851"/>
                  <a:pt x="9751" y="15790"/>
                  <a:pt x="9674" y="15776"/>
                </a:cubicBezTo>
                <a:cubicBezTo>
                  <a:pt x="9607" y="15764"/>
                  <a:pt x="9529" y="15783"/>
                  <a:pt x="9475" y="15825"/>
                </a:cubicBezTo>
                <a:cubicBezTo>
                  <a:pt x="9383" y="15897"/>
                  <a:pt x="9370" y="16045"/>
                  <a:pt x="9327" y="16148"/>
                </a:cubicBezTo>
                <a:cubicBezTo>
                  <a:pt x="9307" y="16196"/>
                  <a:pt x="9286" y="16266"/>
                  <a:pt x="9302" y="16321"/>
                </a:cubicBezTo>
                <a:cubicBezTo>
                  <a:pt x="9328" y="16409"/>
                  <a:pt x="9383" y="16456"/>
                  <a:pt x="9475" y="16470"/>
                </a:cubicBezTo>
                <a:cubicBezTo>
                  <a:pt x="9554" y="16482"/>
                  <a:pt x="9659" y="16478"/>
                  <a:pt x="9723" y="16446"/>
                </a:cubicBezTo>
                <a:cubicBezTo>
                  <a:pt x="9794" y="16411"/>
                  <a:pt x="9846" y="16392"/>
                  <a:pt x="9897" y="16321"/>
                </a:cubicBezTo>
                <a:cubicBezTo>
                  <a:pt x="9916" y="16295"/>
                  <a:pt x="9965" y="16227"/>
                  <a:pt x="9971" y="16197"/>
                </a:cubicBezTo>
                <a:cubicBezTo>
                  <a:pt x="9971" y="16156"/>
                  <a:pt x="9971" y="16148"/>
                  <a:pt x="9971" y="16123"/>
                </a:cubicBezTo>
                <a:cubicBezTo>
                  <a:pt x="9882" y="16123"/>
                  <a:pt x="9806" y="16130"/>
                  <a:pt x="9723" y="16148"/>
                </a:cubicBezTo>
                <a:cubicBezTo>
                  <a:pt x="9667" y="16160"/>
                  <a:pt x="9592" y="16119"/>
                  <a:pt x="9575" y="16173"/>
                </a:cubicBezTo>
              </a:path>
              <a:path w="6798" h="3102">
                <a:moveTo>
                  <a:pt x="11013" y="15453"/>
                </a:moveTo>
                <a:cubicBezTo>
                  <a:pt x="11209" y="15426"/>
                  <a:pt x="11413" y="15410"/>
                  <a:pt x="11609" y="15379"/>
                </a:cubicBezTo>
                <a:cubicBezTo>
                  <a:pt x="11688" y="15366"/>
                  <a:pt x="12033" y="15282"/>
                  <a:pt x="12080" y="15329"/>
                </a:cubicBezTo>
              </a:path>
              <a:path w="6798" h="3102">
                <a:moveTo>
                  <a:pt x="11088" y="14660"/>
                </a:moveTo>
                <a:cubicBezTo>
                  <a:pt x="10948" y="14774"/>
                  <a:pt x="11100" y="14582"/>
                  <a:pt x="11137" y="14560"/>
                </a:cubicBezTo>
                <a:cubicBezTo>
                  <a:pt x="11162" y="14552"/>
                  <a:pt x="11187" y="14544"/>
                  <a:pt x="11212" y="14536"/>
                </a:cubicBezTo>
                <a:cubicBezTo>
                  <a:pt x="11353" y="14731"/>
                  <a:pt x="11301" y="14873"/>
                  <a:pt x="11137" y="15056"/>
                </a:cubicBezTo>
                <a:cubicBezTo>
                  <a:pt x="11009" y="15199"/>
                  <a:pt x="10868" y="15315"/>
                  <a:pt x="10716" y="15180"/>
                </a:cubicBezTo>
                <a:cubicBezTo>
                  <a:pt x="10818" y="15043"/>
                  <a:pt x="10989" y="15009"/>
                  <a:pt x="11162" y="15032"/>
                </a:cubicBezTo>
                <a:cubicBezTo>
                  <a:pt x="11270" y="15047"/>
                  <a:pt x="11365" y="15337"/>
                  <a:pt x="11385" y="15230"/>
                </a:cubicBezTo>
                <a:cubicBezTo>
                  <a:pt x="11385" y="15213"/>
                  <a:pt x="11385" y="15197"/>
                  <a:pt x="11385" y="15180"/>
                </a:cubicBezTo>
              </a:path>
              <a:path w="6798" h="3102">
                <a:moveTo>
                  <a:pt x="11683" y="14461"/>
                </a:moveTo>
                <a:cubicBezTo>
                  <a:pt x="11565" y="14535"/>
                  <a:pt x="11506" y="14666"/>
                  <a:pt x="11485" y="14808"/>
                </a:cubicBezTo>
                <a:cubicBezTo>
                  <a:pt x="11464" y="14948"/>
                  <a:pt x="11499" y="15196"/>
                  <a:pt x="11708" y="15081"/>
                </a:cubicBezTo>
                <a:cubicBezTo>
                  <a:pt x="11849" y="15003"/>
                  <a:pt x="11928" y="14736"/>
                  <a:pt x="11807" y="14610"/>
                </a:cubicBezTo>
                <a:cubicBezTo>
                  <a:pt x="11773" y="14575"/>
                  <a:pt x="11683" y="14546"/>
                  <a:pt x="11633" y="14536"/>
                </a:cubicBezTo>
              </a:path>
              <a:path w="6798" h="3102">
                <a:moveTo>
                  <a:pt x="11534" y="15825"/>
                </a:moveTo>
                <a:cubicBezTo>
                  <a:pt x="11521" y="15788"/>
                  <a:pt x="11509" y="15804"/>
                  <a:pt x="11509" y="15751"/>
                </a:cubicBezTo>
                <a:cubicBezTo>
                  <a:pt x="11509" y="15831"/>
                  <a:pt x="11460" y="16247"/>
                  <a:pt x="11534" y="16272"/>
                </a:cubicBezTo>
              </a:path>
              <a:path w="6798" h="3102">
                <a:moveTo>
                  <a:pt x="9798" y="14312"/>
                </a:moveTo>
                <a:cubicBezTo>
                  <a:pt x="9709" y="14184"/>
                  <a:pt x="9696" y="14505"/>
                  <a:pt x="9699" y="14536"/>
                </a:cubicBezTo>
                <a:cubicBezTo>
                  <a:pt x="9707" y="14552"/>
                  <a:pt x="9715" y="14569"/>
                  <a:pt x="9723" y="14585"/>
                </a:cubicBezTo>
                <a:cubicBezTo>
                  <a:pt x="9780" y="14568"/>
                  <a:pt x="9931" y="14406"/>
                  <a:pt x="9773" y="14387"/>
                </a:cubicBezTo>
                <a:cubicBezTo>
                  <a:pt x="9756" y="14395"/>
                  <a:pt x="9740" y="14404"/>
                  <a:pt x="9723" y="14412"/>
                </a:cubicBezTo>
              </a:path>
              <a:path w="6798" h="3102">
                <a:moveTo>
                  <a:pt x="9971" y="14188"/>
                </a:moveTo>
                <a:cubicBezTo>
                  <a:pt x="9931" y="14241"/>
                  <a:pt x="9875" y="14529"/>
                  <a:pt x="9971" y="14412"/>
                </a:cubicBezTo>
                <a:cubicBezTo>
                  <a:pt x="9994" y="14321"/>
                  <a:pt x="10002" y="14298"/>
                  <a:pt x="9996" y="14238"/>
                </a:cubicBezTo>
                <a:cubicBezTo>
                  <a:pt x="10100" y="14342"/>
                  <a:pt x="10224" y="14565"/>
                  <a:pt x="10145" y="14734"/>
                </a:cubicBezTo>
                <a:cubicBezTo>
                  <a:pt x="10043" y="14810"/>
                  <a:pt x="10007" y="14833"/>
                  <a:pt x="9922" y="14759"/>
                </a:cubicBezTo>
              </a:path>
              <a:path w="6798" h="3102">
                <a:moveTo>
                  <a:pt x="10195" y="13940"/>
                </a:moveTo>
                <a:cubicBezTo>
                  <a:pt x="10150" y="14030"/>
                  <a:pt x="10136" y="14052"/>
                  <a:pt x="10120" y="14114"/>
                </a:cubicBezTo>
                <a:cubicBezTo>
                  <a:pt x="10224" y="14121"/>
                  <a:pt x="10272" y="14126"/>
                  <a:pt x="10344" y="14188"/>
                </a:cubicBezTo>
                <a:cubicBezTo>
                  <a:pt x="10287" y="14302"/>
                  <a:pt x="10258" y="14345"/>
                  <a:pt x="10170" y="14387"/>
                </a:cubicBezTo>
              </a:path>
              <a:path w="6798" h="3102">
                <a:moveTo>
                  <a:pt x="9897" y="16495"/>
                </a:moveTo>
                <a:cubicBezTo>
                  <a:pt x="9912" y="16585"/>
                  <a:pt x="9932" y="16678"/>
                  <a:pt x="9947" y="16768"/>
                </a:cubicBezTo>
                <a:cubicBezTo>
                  <a:pt x="9947" y="16760"/>
                  <a:pt x="9947" y="16751"/>
                  <a:pt x="9947" y="16743"/>
                </a:cubicBezTo>
              </a:path>
              <a:path w="6798" h="3102">
                <a:moveTo>
                  <a:pt x="10145" y="16743"/>
                </a:moveTo>
                <a:cubicBezTo>
                  <a:pt x="10153" y="16751"/>
                  <a:pt x="10162" y="16760"/>
                  <a:pt x="10170" y="16768"/>
                </a:cubicBezTo>
                <a:cubicBezTo>
                  <a:pt x="10091" y="16729"/>
                  <a:pt x="9995" y="16611"/>
                  <a:pt x="10096" y="16520"/>
                </a:cubicBezTo>
                <a:cubicBezTo>
                  <a:pt x="10177" y="16493"/>
                  <a:pt x="10208" y="16484"/>
                  <a:pt x="10269" y="16495"/>
                </a:cubicBezTo>
              </a:path>
              <a:path w="6798" h="3102">
                <a:moveTo>
                  <a:pt x="10393" y="16619"/>
                </a:moveTo>
                <a:cubicBezTo>
                  <a:pt x="10321" y="16691"/>
                  <a:pt x="10307" y="16745"/>
                  <a:pt x="10344" y="16842"/>
                </a:cubicBezTo>
                <a:cubicBezTo>
                  <a:pt x="10348" y="16794"/>
                  <a:pt x="10343" y="16571"/>
                  <a:pt x="10368" y="16694"/>
                </a:cubicBezTo>
                <a:cubicBezTo>
                  <a:pt x="10389" y="16776"/>
                  <a:pt x="10380" y="16809"/>
                  <a:pt x="10443" y="16793"/>
                </a:cubicBezTo>
              </a:path>
              <a:path w="6798" h="3102">
                <a:moveTo>
                  <a:pt x="10443" y="16694"/>
                </a:moveTo>
                <a:cubicBezTo>
                  <a:pt x="10610" y="16677"/>
                  <a:pt x="10643" y="16643"/>
                  <a:pt x="10740" y="16520"/>
                </a:cubicBezTo>
                <a:cubicBezTo>
                  <a:pt x="10748" y="16512"/>
                  <a:pt x="10757" y="16503"/>
                  <a:pt x="10765" y="16495"/>
                </a:cubicBezTo>
                <a:cubicBezTo>
                  <a:pt x="10722" y="16509"/>
                  <a:pt x="10714" y="16652"/>
                  <a:pt x="10716" y="16694"/>
                </a:cubicBezTo>
                <a:cubicBezTo>
                  <a:pt x="10720" y="16779"/>
                  <a:pt x="10740" y="16856"/>
                  <a:pt x="10740" y="16942"/>
                </a:cubicBezTo>
              </a:path>
              <a:path w="6798" h="3102">
                <a:moveTo>
                  <a:pt x="10716" y="16818"/>
                </a:moveTo>
                <a:cubicBezTo>
                  <a:pt x="10786" y="16797"/>
                  <a:pt x="10818" y="16793"/>
                  <a:pt x="10889" y="16793"/>
                </a:cubicBezTo>
                <a:cubicBezTo>
                  <a:pt x="10867" y="16728"/>
                  <a:pt x="10800" y="16826"/>
                  <a:pt x="10790" y="16867"/>
                </a:cubicBezTo>
                <a:cubicBezTo>
                  <a:pt x="10739" y="17084"/>
                  <a:pt x="11025" y="17009"/>
                  <a:pt x="11137" y="16966"/>
                </a:cubicBezTo>
                <a:cubicBezTo>
                  <a:pt x="11145" y="16958"/>
                  <a:pt x="11154" y="16950"/>
                  <a:pt x="11162" y="16942"/>
                </a:cubicBezTo>
              </a:path>
              <a:path w="6798" h="3102">
                <a:moveTo>
                  <a:pt x="13295" y="15404"/>
                </a:moveTo>
                <a:cubicBezTo>
                  <a:pt x="13377" y="15383"/>
                  <a:pt x="13434" y="15379"/>
                  <a:pt x="13519" y="15379"/>
                </a:cubicBezTo>
              </a:path>
              <a:path w="6798" h="3102">
                <a:moveTo>
                  <a:pt x="13593" y="15701"/>
                </a:moveTo>
                <a:cubicBezTo>
                  <a:pt x="13673" y="15701"/>
                  <a:pt x="13495" y="15751"/>
                  <a:pt x="13419" y="15776"/>
                </a:cubicBezTo>
                <a:cubicBezTo>
                  <a:pt x="13386" y="15784"/>
                  <a:pt x="13353" y="15793"/>
                  <a:pt x="13320" y="15801"/>
                </a:cubicBezTo>
                <a:cubicBezTo>
                  <a:pt x="13248" y="15801"/>
                  <a:pt x="13499" y="15777"/>
                  <a:pt x="13519" y="15776"/>
                </a:cubicBezTo>
                <a:cubicBezTo>
                  <a:pt x="13535" y="15776"/>
                  <a:pt x="13552" y="15776"/>
                  <a:pt x="13568" y="15776"/>
                </a:cubicBezTo>
              </a:path>
              <a:path w="6798" h="3102">
                <a:moveTo>
                  <a:pt x="11981" y="15801"/>
                </a:moveTo>
                <a:cubicBezTo>
                  <a:pt x="11971" y="15762"/>
                  <a:pt x="11929" y="15718"/>
                  <a:pt x="11881" y="15751"/>
                </a:cubicBezTo>
                <a:cubicBezTo>
                  <a:pt x="11796" y="15809"/>
                  <a:pt x="11785" y="15956"/>
                  <a:pt x="11782" y="16049"/>
                </a:cubicBezTo>
                <a:cubicBezTo>
                  <a:pt x="11780" y="16113"/>
                  <a:pt x="11787" y="16165"/>
                  <a:pt x="11857" y="16173"/>
                </a:cubicBezTo>
                <a:cubicBezTo>
                  <a:pt x="11885" y="16176"/>
                  <a:pt x="11974" y="16158"/>
                  <a:pt x="12005" y="16148"/>
                </a:cubicBezTo>
                <a:cubicBezTo>
                  <a:pt x="12087" y="16122"/>
                  <a:pt x="12145" y="16082"/>
                  <a:pt x="12154" y="15999"/>
                </a:cubicBezTo>
                <a:cubicBezTo>
                  <a:pt x="12161" y="15938"/>
                  <a:pt x="12134" y="15897"/>
                  <a:pt x="12105" y="15875"/>
                </a:cubicBezTo>
                <a:cubicBezTo>
                  <a:pt x="12068" y="15847"/>
                  <a:pt x="12053" y="15804"/>
                  <a:pt x="12005" y="15801"/>
                </a:cubicBezTo>
                <a:cubicBezTo>
                  <a:pt x="11964" y="15801"/>
                  <a:pt x="11956" y="15801"/>
                  <a:pt x="11931" y="15801"/>
                </a:cubicBezTo>
              </a:path>
              <a:path w="6798" h="3102">
                <a:moveTo>
                  <a:pt x="14858" y="14436"/>
                </a:moveTo>
                <a:cubicBezTo>
                  <a:pt x="14902" y="14502"/>
                  <a:pt x="14712" y="14489"/>
                  <a:pt x="14660" y="14511"/>
                </a:cubicBezTo>
                <a:cubicBezTo>
                  <a:pt x="14501" y="14578"/>
                  <a:pt x="14511" y="14564"/>
                  <a:pt x="14511" y="14709"/>
                </a:cubicBezTo>
                <a:cubicBezTo>
                  <a:pt x="14511" y="14818"/>
                  <a:pt x="14516" y="14845"/>
                  <a:pt x="14486" y="14908"/>
                </a:cubicBezTo>
                <a:cubicBezTo>
                  <a:pt x="14604" y="14874"/>
                  <a:pt x="14703" y="14800"/>
                  <a:pt x="14833" y="14858"/>
                </a:cubicBezTo>
                <a:cubicBezTo>
                  <a:pt x="15042" y="14951"/>
                  <a:pt x="14661" y="15175"/>
                  <a:pt x="14610" y="15205"/>
                </a:cubicBezTo>
                <a:cubicBezTo>
                  <a:pt x="14569" y="15225"/>
                  <a:pt x="14553" y="15244"/>
                  <a:pt x="14560" y="15205"/>
                </a:cubicBezTo>
              </a:path>
              <a:path w="6798" h="3102">
                <a:moveTo>
                  <a:pt x="14188" y="15602"/>
                </a:moveTo>
                <a:cubicBezTo>
                  <a:pt x="14533" y="15516"/>
                  <a:pt x="14876" y="15406"/>
                  <a:pt x="15230" y="15354"/>
                </a:cubicBezTo>
                <a:cubicBezTo>
                  <a:pt x="15430" y="15325"/>
                  <a:pt x="15640" y="15319"/>
                  <a:pt x="15652" y="15354"/>
                </a:cubicBezTo>
              </a:path>
              <a:path w="6798" h="3102">
                <a:moveTo>
                  <a:pt x="12278" y="14585"/>
                </a:moveTo>
                <a:cubicBezTo>
                  <a:pt x="12359" y="14551"/>
                  <a:pt x="12432" y="14477"/>
                  <a:pt x="12526" y="14461"/>
                </a:cubicBezTo>
                <a:cubicBezTo>
                  <a:pt x="12534" y="14461"/>
                  <a:pt x="12543" y="14461"/>
                  <a:pt x="12551" y="14461"/>
                </a:cubicBezTo>
              </a:path>
              <a:path w="6798" h="3102">
                <a:moveTo>
                  <a:pt x="12601" y="14213"/>
                </a:moveTo>
                <a:cubicBezTo>
                  <a:pt x="12607" y="14282"/>
                  <a:pt x="12618" y="14344"/>
                  <a:pt x="12626" y="14412"/>
                </a:cubicBezTo>
                <a:cubicBezTo>
                  <a:pt x="12756" y="14379"/>
                  <a:pt x="12807" y="14330"/>
                  <a:pt x="12898" y="14238"/>
                </a:cubicBezTo>
              </a:path>
              <a:path w="6798" h="3102">
                <a:moveTo>
                  <a:pt x="12725" y="14089"/>
                </a:moveTo>
                <a:cubicBezTo>
                  <a:pt x="12759" y="14242"/>
                  <a:pt x="12835" y="14385"/>
                  <a:pt x="12874" y="14536"/>
                </a:cubicBezTo>
                <a:cubicBezTo>
                  <a:pt x="12874" y="14552"/>
                  <a:pt x="12874" y="14569"/>
                  <a:pt x="12874" y="14585"/>
                </a:cubicBezTo>
              </a:path>
              <a:path w="6798" h="3102">
                <a:moveTo>
                  <a:pt x="12303" y="16371"/>
                </a:moveTo>
                <a:cubicBezTo>
                  <a:pt x="12381" y="16388"/>
                  <a:pt x="12430" y="16442"/>
                  <a:pt x="12502" y="16470"/>
                </a:cubicBezTo>
                <a:cubicBezTo>
                  <a:pt x="12526" y="16470"/>
                  <a:pt x="12534" y="16470"/>
                  <a:pt x="12526" y="16446"/>
                </a:cubicBezTo>
              </a:path>
              <a:path w="6798" h="3102">
                <a:moveTo>
                  <a:pt x="12650" y="16545"/>
                </a:moveTo>
                <a:cubicBezTo>
                  <a:pt x="12675" y="16520"/>
                  <a:pt x="12683" y="16512"/>
                  <a:pt x="12700" y="16495"/>
                </a:cubicBezTo>
                <a:cubicBezTo>
                  <a:pt x="12689" y="16570"/>
                  <a:pt x="12656" y="16642"/>
                  <a:pt x="12626" y="16718"/>
                </a:cubicBezTo>
                <a:cubicBezTo>
                  <a:pt x="12724" y="16718"/>
                  <a:pt x="12782" y="16684"/>
                  <a:pt x="12874" y="16669"/>
                </a:cubicBezTo>
                <a:cubicBezTo>
                  <a:pt x="12882" y="16669"/>
                  <a:pt x="12890" y="16669"/>
                  <a:pt x="12898" y="16669"/>
                </a:cubicBezTo>
              </a:path>
              <a:path w="6798" h="3102">
                <a:moveTo>
                  <a:pt x="12874" y="16421"/>
                </a:moveTo>
                <a:cubicBezTo>
                  <a:pt x="12864" y="16596"/>
                  <a:pt x="12839" y="16768"/>
                  <a:pt x="12824" y="16942"/>
                </a:cubicBezTo>
                <a:cubicBezTo>
                  <a:pt x="12821" y="16983"/>
                  <a:pt x="12824" y="17057"/>
                  <a:pt x="12824" y="17016"/>
                </a:cubicBezTo>
              </a:path>
              <a:path w="6798" h="3102">
                <a:moveTo>
                  <a:pt x="14833" y="15776"/>
                </a:moveTo>
                <a:cubicBezTo>
                  <a:pt x="14781" y="15759"/>
                  <a:pt x="14829" y="15694"/>
                  <a:pt x="14858" y="15652"/>
                </a:cubicBezTo>
                <a:cubicBezTo>
                  <a:pt x="14878" y="15623"/>
                  <a:pt x="14974" y="15569"/>
                  <a:pt x="15007" y="15602"/>
                </a:cubicBezTo>
                <a:cubicBezTo>
                  <a:pt x="15117" y="15712"/>
                  <a:pt x="15019" y="15875"/>
                  <a:pt x="14957" y="15974"/>
                </a:cubicBezTo>
                <a:cubicBezTo>
                  <a:pt x="14896" y="16072"/>
                  <a:pt x="14775" y="16140"/>
                  <a:pt x="14734" y="16247"/>
                </a:cubicBezTo>
                <a:cubicBezTo>
                  <a:pt x="14734" y="16255"/>
                  <a:pt x="14734" y="16264"/>
                  <a:pt x="14734" y="16272"/>
                </a:cubicBezTo>
                <a:cubicBezTo>
                  <a:pt x="14745" y="16185"/>
                  <a:pt x="14763" y="16149"/>
                  <a:pt x="14833" y="16098"/>
                </a:cubicBezTo>
                <a:cubicBezTo>
                  <a:pt x="14912" y="16128"/>
                  <a:pt x="14933" y="16192"/>
                  <a:pt x="15032" y="16197"/>
                </a:cubicBezTo>
                <a:cubicBezTo>
                  <a:pt x="15110" y="16201"/>
                  <a:pt x="15093" y="16201"/>
                  <a:pt x="15156" y="16148"/>
                </a:cubicBezTo>
              </a:path>
              <a:path w="6798" h="3102">
                <a:moveTo>
                  <a:pt x="15726" y="15677"/>
                </a:moveTo>
                <a:cubicBezTo>
                  <a:pt x="15659" y="15690"/>
                  <a:pt x="15629" y="15696"/>
                  <a:pt x="15553" y="15701"/>
                </a:cubicBezTo>
                <a:cubicBezTo>
                  <a:pt x="15515" y="15751"/>
                  <a:pt x="15523" y="15814"/>
                  <a:pt x="15553" y="15875"/>
                </a:cubicBezTo>
                <a:cubicBezTo>
                  <a:pt x="15579" y="15929"/>
                  <a:pt x="15731" y="15877"/>
                  <a:pt x="15776" y="15875"/>
                </a:cubicBezTo>
                <a:cubicBezTo>
                  <a:pt x="15906" y="15871"/>
                  <a:pt x="15948" y="15970"/>
                  <a:pt x="15850" y="16049"/>
                </a:cubicBezTo>
                <a:cubicBezTo>
                  <a:pt x="15805" y="16085"/>
                  <a:pt x="15667" y="16151"/>
                  <a:pt x="15627" y="16073"/>
                </a:cubicBezTo>
                <a:cubicBezTo>
                  <a:pt x="15627" y="16065"/>
                  <a:pt x="15627" y="16057"/>
                  <a:pt x="15627" y="160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446720" y="5143680"/>
            <a:ext cx="1090440" cy="642600"/>
          </a:xfrm>
          <a:custGeom>
            <a:avLst/>
            <a:gdLst/>
            <a:ahLst/>
            <a:rect l="l" t="t" r="r" b="b"/>
            <a:pathLst>
              <a:path w="3027" h="1786">
                <a:moveTo>
                  <a:pt x="12353" y="14288"/>
                </a:moveTo>
                <a:lnTo>
                  <a:pt x="12353" y="14288"/>
                </a:lnTo>
              </a:path>
              <a:path w="3027" h="1786">
                <a:moveTo>
                  <a:pt x="12626" y="14709"/>
                </a:moveTo>
                <a:cubicBezTo>
                  <a:pt x="12618" y="14709"/>
                  <a:pt x="12609" y="14709"/>
                  <a:pt x="12601" y="14709"/>
                </a:cubicBezTo>
              </a:path>
              <a:path w="3027" h="1786">
                <a:moveTo>
                  <a:pt x="15354" y="15999"/>
                </a:moveTo>
                <a:cubicBezTo>
                  <a:pt x="15372" y="16044"/>
                  <a:pt x="15358" y="16053"/>
                  <a:pt x="15379" y="160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705720" y="5106960"/>
            <a:ext cx="482400" cy="385920"/>
          </a:xfrm>
          <a:custGeom>
            <a:avLst/>
            <a:gdLst/>
            <a:ahLst/>
            <a:rect l="l" t="t" r="r" b="b"/>
            <a:pathLst>
              <a:path w="1341" h="1068">
                <a:moveTo>
                  <a:pt x="19075" y="14709"/>
                </a:moveTo>
                <a:cubicBezTo>
                  <a:pt x="19075" y="14684"/>
                  <a:pt x="19075" y="14660"/>
                  <a:pt x="19075" y="14635"/>
                </a:cubicBezTo>
                <a:cubicBezTo>
                  <a:pt x="19075" y="14718"/>
                  <a:pt x="19075" y="14750"/>
                  <a:pt x="19075" y="14833"/>
                </a:cubicBezTo>
                <a:cubicBezTo>
                  <a:pt x="19075" y="14750"/>
                  <a:pt x="19048" y="14599"/>
                  <a:pt x="19100" y="14560"/>
                </a:cubicBezTo>
                <a:cubicBezTo>
                  <a:pt x="19167" y="14510"/>
                  <a:pt x="19187" y="14511"/>
                  <a:pt x="19273" y="14511"/>
                </a:cubicBezTo>
                <a:cubicBezTo>
                  <a:pt x="19372" y="14511"/>
                  <a:pt x="19451" y="14503"/>
                  <a:pt x="19546" y="14486"/>
                </a:cubicBezTo>
                <a:cubicBezTo>
                  <a:pt x="19571" y="14486"/>
                  <a:pt x="19579" y="14486"/>
                  <a:pt x="19596" y="14486"/>
                </a:cubicBezTo>
                <a:cubicBezTo>
                  <a:pt x="19528" y="14644"/>
                  <a:pt x="19475" y="14808"/>
                  <a:pt x="19422" y="14982"/>
                </a:cubicBezTo>
                <a:cubicBezTo>
                  <a:pt x="19394" y="15073"/>
                  <a:pt x="19348" y="15159"/>
                  <a:pt x="19348" y="15255"/>
                </a:cubicBezTo>
              </a:path>
              <a:path w="1341" h="1068">
                <a:moveTo>
                  <a:pt x="18802" y="14436"/>
                </a:moveTo>
                <a:cubicBezTo>
                  <a:pt x="18837" y="14417"/>
                  <a:pt x="18965" y="14319"/>
                  <a:pt x="18951" y="14362"/>
                </a:cubicBezTo>
                <a:cubicBezTo>
                  <a:pt x="18899" y="14526"/>
                  <a:pt x="18668" y="14644"/>
                  <a:pt x="18628" y="14808"/>
                </a:cubicBezTo>
                <a:cubicBezTo>
                  <a:pt x="18554" y="15112"/>
                  <a:pt x="19089" y="14396"/>
                  <a:pt x="19323" y="14188"/>
                </a:cubicBezTo>
                <a:cubicBezTo>
                  <a:pt x="19282" y="14254"/>
                  <a:pt x="18773" y="14886"/>
                  <a:pt x="19000" y="14759"/>
                </a:cubicBezTo>
                <a:cubicBezTo>
                  <a:pt x="19084" y="14712"/>
                  <a:pt x="20017" y="14011"/>
                  <a:pt x="19571" y="14560"/>
                </a:cubicBezTo>
                <a:cubicBezTo>
                  <a:pt x="19414" y="14737"/>
                  <a:pt x="19376" y="14755"/>
                  <a:pt x="19323" y="14883"/>
                </a:cubicBezTo>
                <a:cubicBezTo>
                  <a:pt x="19499" y="14779"/>
                  <a:pt x="19670" y="14667"/>
                  <a:pt x="19844" y="14560"/>
                </a:cubicBezTo>
                <a:cubicBezTo>
                  <a:pt x="19707" y="14771"/>
                  <a:pt x="19204" y="14944"/>
                  <a:pt x="19372" y="15131"/>
                </a:cubicBezTo>
                <a:cubicBezTo>
                  <a:pt x="19425" y="15191"/>
                  <a:pt x="20217" y="14643"/>
                  <a:pt x="19869" y="15081"/>
                </a:cubicBezTo>
                <a:cubicBezTo>
                  <a:pt x="19819" y="15131"/>
                  <a:pt x="19770" y="15180"/>
                  <a:pt x="19720" y="152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24040" y="3241800"/>
            <a:ext cx="106200" cy="44280"/>
          </a:xfrm>
          <a:custGeom>
            <a:avLst/>
            <a:gdLst/>
            <a:ahLst/>
            <a:rect l="l" t="t" r="r" b="b"/>
            <a:pathLst>
              <a:path w="299" h="125">
                <a:moveTo>
                  <a:pt x="4787" y="9029"/>
                </a:moveTo>
                <a:cubicBezTo>
                  <a:pt x="4869" y="9017"/>
                  <a:pt x="5005" y="8967"/>
                  <a:pt x="5085" y="9004"/>
                </a:cubicBezTo>
                <a:cubicBezTo>
                  <a:pt x="5085" y="9067"/>
                  <a:pt x="5058" y="9103"/>
                  <a:pt x="4986" y="9128"/>
                </a:cubicBezTo>
              </a:path>
            </a:pathLst>
          </a:custGeom>
          <a:noFill/>
          <a:ln cap="rnd" w="190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
          <p:cNvSpPr/>
          <p:nvPr/>
        </p:nvSpPr>
        <p:spPr>
          <a:xfrm>
            <a:off x="1731960" y="3303720"/>
            <a:ext cx="108000" cy="19080"/>
          </a:xfrm>
          <a:custGeom>
            <a:avLst/>
            <a:gdLst/>
            <a:ahLst/>
            <a:rect l="l" t="t" r="r" b="b"/>
            <a:pathLst>
              <a:path w="299" h="50">
                <a:moveTo>
                  <a:pt x="4812" y="9227"/>
                </a:moveTo>
                <a:cubicBezTo>
                  <a:pt x="4914" y="9219"/>
                  <a:pt x="5010" y="9200"/>
                  <a:pt x="5110" y="9178"/>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 name=""/>
          <p:cNvSpPr/>
          <p:nvPr/>
        </p:nvSpPr>
        <p:spPr>
          <a:xfrm>
            <a:off x="2357280" y="2938320"/>
            <a:ext cx="44640" cy="293760"/>
          </a:xfrm>
          <a:custGeom>
            <a:avLst/>
            <a:gdLst/>
            <a:ahLst/>
            <a:rect l="l" t="t" r="r" b="b"/>
            <a:pathLst>
              <a:path w="125" h="819">
                <a:moveTo>
                  <a:pt x="6548" y="8161"/>
                </a:moveTo>
                <a:cubicBezTo>
                  <a:pt x="6647" y="8417"/>
                  <a:pt x="6666" y="8655"/>
                  <a:pt x="6672" y="8930"/>
                </a:cubicBezTo>
                <a:cubicBezTo>
                  <a:pt x="6672" y="8946"/>
                  <a:pt x="6672" y="8963"/>
                  <a:pt x="6672" y="89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87280" y="4259160"/>
            <a:ext cx="44640" cy="241560"/>
          </a:xfrm>
          <a:custGeom>
            <a:avLst/>
            <a:gdLst/>
            <a:ahLst/>
            <a:rect l="l" t="t" r="r" b="b"/>
            <a:pathLst>
              <a:path w="125" h="671">
                <a:moveTo>
                  <a:pt x="3423" y="11832"/>
                </a:moveTo>
                <a:cubicBezTo>
                  <a:pt x="3391" y="12020"/>
                  <a:pt x="3364" y="12213"/>
                  <a:pt x="3324" y="12402"/>
                </a:cubicBezTo>
                <a:cubicBezTo>
                  <a:pt x="3316" y="12435"/>
                  <a:pt x="3307" y="12469"/>
                  <a:pt x="3299" y="125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089000" y="4241880"/>
            <a:ext cx="285840" cy="250920"/>
          </a:xfrm>
          <a:custGeom>
            <a:avLst/>
            <a:gdLst/>
            <a:ahLst/>
            <a:rect l="l" t="t" r="r" b="b"/>
            <a:pathLst>
              <a:path w="795" h="696">
                <a:moveTo>
                  <a:pt x="3026" y="11832"/>
                </a:moveTo>
                <a:cubicBezTo>
                  <a:pt x="3181" y="11807"/>
                  <a:pt x="3626" y="11673"/>
                  <a:pt x="3746" y="11857"/>
                </a:cubicBezTo>
                <a:cubicBezTo>
                  <a:pt x="3854" y="12022"/>
                  <a:pt x="3478" y="12130"/>
                  <a:pt x="3398" y="12154"/>
                </a:cubicBezTo>
                <a:cubicBezTo>
                  <a:pt x="3567" y="12070"/>
                  <a:pt x="3633" y="12073"/>
                  <a:pt x="3820" y="12080"/>
                </a:cubicBezTo>
                <a:cubicBezTo>
                  <a:pt x="3776" y="12300"/>
                  <a:pt x="3635" y="12433"/>
                  <a:pt x="3398" y="12477"/>
                </a:cubicBezTo>
                <a:cubicBezTo>
                  <a:pt x="3308" y="12494"/>
                  <a:pt x="3289" y="12423"/>
                  <a:pt x="3324" y="123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17720" y="4518000"/>
            <a:ext cx="482400" cy="19080"/>
          </a:xfrm>
          <a:custGeom>
            <a:avLst/>
            <a:gdLst/>
            <a:ahLst/>
            <a:rect l="l" t="t" r="r" b="b"/>
            <a:pathLst>
              <a:path w="1340" h="51">
                <a:moveTo>
                  <a:pt x="2828" y="12551"/>
                </a:moveTo>
                <a:cubicBezTo>
                  <a:pt x="3139" y="12590"/>
                  <a:pt x="3455" y="12576"/>
                  <a:pt x="3770" y="12576"/>
                </a:cubicBezTo>
                <a:cubicBezTo>
                  <a:pt x="3927" y="12576"/>
                  <a:pt x="4273" y="12575"/>
                  <a:pt x="4118" y="12601"/>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 name=""/>
          <p:cNvSpPr/>
          <p:nvPr/>
        </p:nvSpPr>
        <p:spPr>
          <a:xfrm>
            <a:off x="1116000" y="4589640"/>
            <a:ext cx="187200" cy="260280"/>
          </a:xfrm>
          <a:custGeom>
            <a:avLst/>
            <a:gdLst/>
            <a:ahLst/>
            <a:rect l="l" t="t" r="r" b="b"/>
            <a:pathLst>
              <a:path w="521" h="720">
                <a:moveTo>
                  <a:pt x="3522" y="12874"/>
                </a:moveTo>
                <a:cubicBezTo>
                  <a:pt x="3522" y="12916"/>
                  <a:pt x="3439" y="12768"/>
                  <a:pt x="3373" y="12750"/>
                </a:cubicBezTo>
                <a:cubicBezTo>
                  <a:pt x="3112" y="12677"/>
                  <a:pt x="3078" y="13093"/>
                  <a:pt x="3101" y="13246"/>
                </a:cubicBezTo>
                <a:cubicBezTo>
                  <a:pt x="3151" y="13581"/>
                  <a:pt x="3436" y="13452"/>
                  <a:pt x="3621" y="133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25760" y="4527720"/>
            <a:ext cx="125280" cy="9360"/>
          </a:xfrm>
          <a:custGeom>
            <a:avLst/>
            <a:gdLst/>
            <a:ahLst/>
            <a:rect l="l" t="t" r="r" b="b"/>
            <a:pathLst>
              <a:path w="349" h="26">
                <a:moveTo>
                  <a:pt x="4514" y="12601"/>
                </a:moveTo>
                <a:cubicBezTo>
                  <a:pt x="4591" y="12601"/>
                  <a:pt x="4803" y="12542"/>
                  <a:pt x="4862" y="12576"/>
                </a:cubicBezTo>
                <a:cubicBezTo>
                  <a:pt x="4854" y="12584"/>
                  <a:pt x="4845" y="12593"/>
                  <a:pt x="4837" y="1260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 name=""/>
          <p:cNvSpPr/>
          <p:nvPr/>
        </p:nvSpPr>
        <p:spPr>
          <a:xfrm>
            <a:off x="741240" y="5688000"/>
            <a:ext cx="366840" cy="54000"/>
          </a:xfrm>
          <a:custGeom>
            <a:avLst/>
            <a:gdLst/>
            <a:ahLst/>
            <a:rect l="l" t="t" r="r" b="b"/>
            <a:pathLst>
              <a:path w="1018" h="149">
                <a:moveTo>
                  <a:pt x="2059" y="15949"/>
                </a:moveTo>
                <a:cubicBezTo>
                  <a:pt x="2261" y="15921"/>
                  <a:pt x="2491" y="15853"/>
                  <a:pt x="2704" y="15825"/>
                </a:cubicBezTo>
                <a:cubicBezTo>
                  <a:pt x="2910" y="15805"/>
                  <a:pt x="2951" y="15797"/>
                  <a:pt x="3076" y="15801"/>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 name=""/>
          <p:cNvSpPr/>
          <p:nvPr/>
        </p:nvSpPr>
        <p:spPr>
          <a:xfrm>
            <a:off x="857160" y="5322960"/>
            <a:ext cx="162000" cy="268200"/>
          </a:xfrm>
          <a:custGeom>
            <a:avLst/>
            <a:gdLst/>
            <a:ahLst/>
            <a:rect l="l" t="t" r="r" b="b"/>
            <a:pathLst>
              <a:path w="448" h="745">
                <a:moveTo>
                  <a:pt x="2381" y="14957"/>
                </a:moveTo>
                <a:cubicBezTo>
                  <a:pt x="2404" y="15148"/>
                  <a:pt x="2431" y="15335"/>
                  <a:pt x="2431" y="15528"/>
                </a:cubicBezTo>
                <a:cubicBezTo>
                  <a:pt x="2391" y="15348"/>
                  <a:pt x="2381" y="15194"/>
                  <a:pt x="2381" y="15007"/>
                </a:cubicBezTo>
                <a:cubicBezTo>
                  <a:pt x="2381" y="14951"/>
                  <a:pt x="2381" y="14871"/>
                  <a:pt x="2431" y="14858"/>
                </a:cubicBezTo>
                <a:cubicBezTo>
                  <a:pt x="2529" y="14832"/>
                  <a:pt x="2730" y="14750"/>
                  <a:pt x="2828" y="14784"/>
                </a:cubicBezTo>
                <a:cubicBezTo>
                  <a:pt x="2828" y="14792"/>
                  <a:pt x="2828" y="14800"/>
                  <a:pt x="2828" y="148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66880" y="5456160"/>
            <a:ext cx="160200" cy="17640"/>
          </a:xfrm>
          <a:custGeom>
            <a:avLst/>
            <a:gdLst/>
            <a:ahLst/>
            <a:rect l="l" t="t" r="r" b="b"/>
            <a:pathLst>
              <a:path w="448" h="50">
                <a:moveTo>
                  <a:pt x="2431" y="15205"/>
                </a:moveTo>
                <a:cubicBezTo>
                  <a:pt x="2364" y="15205"/>
                  <a:pt x="2514" y="15191"/>
                  <a:pt x="2580" y="15180"/>
                </a:cubicBezTo>
                <a:cubicBezTo>
                  <a:pt x="2677" y="15163"/>
                  <a:pt x="2758" y="15156"/>
                  <a:pt x="2853" y="15156"/>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884160" y="5830920"/>
            <a:ext cx="17640" cy="233280"/>
          </a:xfrm>
          <a:custGeom>
            <a:avLst/>
            <a:gdLst/>
            <a:ahLst/>
            <a:rect l="l" t="t" r="r" b="b"/>
            <a:pathLst>
              <a:path w="50" h="646">
                <a:moveTo>
                  <a:pt x="2505" y="16197"/>
                </a:moveTo>
                <a:cubicBezTo>
                  <a:pt x="2505" y="16389"/>
                  <a:pt x="2511" y="16577"/>
                  <a:pt x="2480" y="16768"/>
                </a:cubicBezTo>
                <a:cubicBezTo>
                  <a:pt x="2472" y="16793"/>
                  <a:pt x="2464" y="16817"/>
                  <a:pt x="2456"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57160" y="5813280"/>
            <a:ext cx="231840" cy="258840"/>
          </a:xfrm>
          <a:custGeom>
            <a:avLst/>
            <a:gdLst/>
            <a:ahLst/>
            <a:rect l="l" t="t" r="r" b="b"/>
            <a:pathLst>
              <a:path w="646" h="720">
                <a:moveTo>
                  <a:pt x="2381" y="16222"/>
                </a:moveTo>
                <a:cubicBezTo>
                  <a:pt x="2571" y="16140"/>
                  <a:pt x="2667" y="16134"/>
                  <a:pt x="2853" y="16247"/>
                </a:cubicBezTo>
                <a:cubicBezTo>
                  <a:pt x="2955" y="16309"/>
                  <a:pt x="3068" y="16462"/>
                  <a:pt x="3026" y="16594"/>
                </a:cubicBezTo>
                <a:cubicBezTo>
                  <a:pt x="2977" y="16750"/>
                  <a:pt x="2781" y="16772"/>
                  <a:pt x="2654" y="16818"/>
                </a:cubicBezTo>
                <a:cubicBezTo>
                  <a:pt x="2634" y="16825"/>
                  <a:pt x="2500" y="16873"/>
                  <a:pt x="2480" y="16867"/>
                </a:cubicBezTo>
                <a:cubicBezTo>
                  <a:pt x="2480" y="16859"/>
                  <a:pt x="2480" y="16850"/>
                  <a:pt x="2480"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276200" y="5661000"/>
            <a:ext cx="90720" cy="9720"/>
          </a:xfrm>
          <a:custGeom>
            <a:avLst/>
            <a:gdLst/>
            <a:ahLst/>
            <a:rect l="l" t="t" r="r" b="b"/>
            <a:pathLst>
              <a:path w="249" h="26">
                <a:moveTo>
                  <a:pt x="3547" y="15751"/>
                </a:moveTo>
                <a:cubicBezTo>
                  <a:pt x="3618" y="15737"/>
                  <a:pt x="3722" y="15692"/>
                  <a:pt x="3795" y="15726"/>
                </a:cubicBezTo>
                <a:cubicBezTo>
                  <a:pt x="3795" y="15734"/>
                  <a:pt x="3795" y="15743"/>
                  <a:pt x="3795" y="15751"/>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 name=""/>
          <p:cNvSpPr/>
          <p:nvPr/>
        </p:nvSpPr>
        <p:spPr>
          <a:xfrm>
            <a:off x="1268280" y="5715000"/>
            <a:ext cx="115920" cy="9360"/>
          </a:xfrm>
          <a:custGeom>
            <a:avLst/>
            <a:gdLst/>
            <a:ahLst/>
            <a:rect l="l" t="t" r="r" b="b"/>
            <a:pathLst>
              <a:path w="324" h="26">
                <a:moveTo>
                  <a:pt x="3522" y="15900"/>
                </a:moveTo>
                <a:cubicBezTo>
                  <a:pt x="3622" y="15893"/>
                  <a:pt x="3719" y="15875"/>
                  <a:pt x="3820" y="15875"/>
                </a:cubicBezTo>
                <a:cubicBezTo>
                  <a:pt x="3828" y="15875"/>
                  <a:pt x="3837" y="15875"/>
                  <a:pt x="3845" y="15875"/>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785960" y="5348160"/>
            <a:ext cx="233280" cy="287640"/>
          </a:xfrm>
          <a:custGeom>
            <a:avLst/>
            <a:gdLst/>
            <a:ahLst/>
            <a:rect l="l" t="t" r="r" b="b"/>
            <a:pathLst>
              <a:path w="646" h="795">
                <a:moveTo>
                  <a:pt x="5135" y="15056"/>
                </a:moveTo>
                <a:cubicBezTo>
                  <a:pt x="5135" y="14980"/>
                  <a:pt x="5148" y="14975"/>
                  <a:pt x="5209" y="14932"/>
                </a:cubicBezTo>
                <a:cubicBezTo>
                  <a:pt x="5305" y="14865"/>
                  <a:pt x="5315" y="14858"/>
                  <a:pt x="5432" y="14858"/>
                </a:cubicBezTo>
                <a:cubicBezTo>
                  <a:pt x="5499" y="14858"/>
                  <a:pt x="5563" y="14918"/>
                  <a:pt x="5581" y="14982"/>
                </a:cubicBezTo>
                <a:cubicBezTo>
                  <a:pt x="5611" y="15089"/>
                  <a:pt x="5506" y="15159"/>
                  <a:pt x="5432" y="15205"/>
                </a:cubicBezTo>
                <a:cubicBezTo>
                  <a:pt x="5334" y="15266"/>
                  <a:pt x="5232" y="15314"/>
                  <a:pt x="5135" y="15379"/>
                </a:cubicBezTo>
                <a:cubicBezTo>
                  <a:pt x="5063" y="15427"/>
                  <a:pt x="5030" y="15475"/>
                  <a:pt x="4986" y="15553"/>
                </a:cubicBezTo>
                <a:cubicBezTo>
                  <a:pt x="4978" y="15569"/>
                  <a:pt x="4969" y="15586"/>
                  <a:pt x="4961" y="15602"/>
                </a:cubicBezTo>
                <a:cubicBezTo>
                  <a:pt x="4961" y="15627"/>
                  <a:pt x="4989" y="15587"/>
                  <a:pt x="5035" y="15553"/>
                </a:cubicBezTo>
                <a:cubicBezTo>
                  <a:pt x="5063" y="15532"/>
                  <a:pt x="5199" y="15449"/>
                  <a:pt x="5234" y="15478"/>
                </a:cubicBezTo>
                <a:cubicBezTo>
                  <a:pt x="5272" y="15509"/>
                  <a:pt x="5307" y="15639"/>
                  <a:pt x="5358" y="15652"/>
                </a:cubicBezTo>
                <a:cubicBezTo>
                  <a:pt x="5401" y="15664"/>
                  <a:pt x="5528" y="15662"/>
                  <a:pt x="5556" y="15627"/>
                </a:cubicBezTo>
                <a:cubicBezTo>
                  <a:pt x="5576" y="15586"/>
                  <a:pt x="5574" y="15570"/>
                  <a:pt x="5606" y="155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51040" y="5688000"/>
            <a:ext cx="312840" cy="9360"/>
          </a:xfrm>
          <a:custGeom>
            <a:avLst/>
            <a:gdLst/>
            <a:ahLst/>
            <a:rect l="l" t="t" r="r" b="b"/>
            <a:pathLst>
              <a:path w="869" h="25">
                <a:moveTo>
                  <a:pt x="4862" y="15825"/>
                </a:moveTo>
                <a:cubicBezTo>
                  <a:pt x="5042" y="15796"/>
                  <a:pt x="5221" y="15801"/>
                  <a:pt x="5407" y="15801"/>
                </a:cubicBezTo>
                <a:cubicBezTo>
                  <a:pt x="5515" y="15801"/>
                  <a:pt x="5622" y="15801"/>
                  <a:pt x="5730" y="15801"/>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1" name=""/>
          <p:cNvSpPr/>
          <p:nvPr/>
        </p:nvSpPr>
        <p:spPr>
          <a:xfrm>
            <a:off x="1803240" y="5742000"/>
            <a:ext cx="189000" cy="187200"/>
          </a:xfrm>
          <a:custGeom>
            <a:avLst/>
            <a:gdLst/>
            <a:ahLst/>
            <a:rect l="l" t="t" r="r" b="b"/>
            <a:pathLst>
              <a:path w="521" h="522">
                <a:moveTo>
                  <a:pt x="5482" y="15949"/>
                </a:moveTo>
                <a:cubicBezTo>
                  <a:pt x="5389" y="15972"/>
                  <a:pt x="5311" y="15984"/>
                  <a:pt x="5209" y="15974"/>
                </a:cubicBezTo>
                <a:cubicBezTo>
                  <a:pt x="5171" y="15970"/>
                  <a:pt x="5147" y="16072"/>
                  <a:pt x="5135" y="16098"/>
                </a:cubicBezTo>
                <a:cubicBezTo>
                  <a:pt x="5009" y="16140"/>
                  <a:pt x="5153" y="16075"/>
                  <a:pt x="5209" y="16073"/>
                </a:cubicBezTo>
                <a:cubicBezTo>
                  <a:pt x="5334" y="16069"/>
                  <a:pt x="5462" y="16073"/>
                  <a:pt x="5507" y="16197"/>
                </a:cubicBezTo>
                <a:cubicBezTo>
                  <a:pt x="5545" y="16301"/>
                  <a:pt x="5481" y="16443"/>
                  <a:pt x="5358" y="16470"/>
                </a:cubicBezTo>
                <a:cubicBezTo>
                  <a:pt x="5246" y="16495"/>
                  <a:pt x="5054" y="16432"/>
                  <a:pt x="5035" y="163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28880" y="5769000"/>
            <a:ext cx="152280" cy="9360"/>
          </a:xfrm>
          <a:custGeom>
            <a:avLst/>
            <a:gdLst/>
            <a:ahLst/>
            <a:rect l="l" t="t" r="r" b="b"/>
            <a:pathLst>
              <a:path w="422" h="26">
                <a:moveTo>
                  <a:pt x="5383" y="16049"/>
                </a:moveTo>
                <a:cubicBezTo>
                  <a:pt x="5316" y="16049"/>
                  <a:pt x="5464" y="16030"/>
                  <a:pt x="5531" y="16024"/>
                </a:cubicBezTo>
                <a:cubicBezTo>
                  <a:pt x="5623" y="16016"/>
                  <a:pt x="5702" y="16029"/>
                  <a:pt x="5779" y="16049"/>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 name=""/>
          <p:cNvSpPr/>
          <p:nvPr/>
        </p:nvSpPr>
        <p:spPr>
          <a:xfrm>
            <a:off x="1893960" y="5732640"/>
            <a:ext cx="177840" cy="26640"/>
          </a:xfrm>
          <a:custGeom>
            <a:avLst/>
            <a:gdLst/>
            <a:ahLst/>
            <a:rect l="l" t="t" r="r" b="b"/>
            <a:pathLst>
              <a:path w="497" h="75">
                <a:moveTo>
                  <a:pt x="5259" y="15999"/>
                </a:moveTo>
                <a:cubicBezTo>
                  <a:pt x="5294" y="15987"/>
                  <a:pt x="5298" y="15957"/>
                  <a:pt x="5358" y="15949"/>
                </a:cubicBezTo>
                <a:cubicBezTo>
                  <a:pt x="5481" y="15932"/>
                  <a:pt x="5543" y="15955"/>
                  <a:pt x="5655" y="15974"/>
                </a:cubicBezTo>
                <a:cubicBezTo>
                  <a:pt x="5756" y="15991"/>
                  <a:pt x="5749" y="15943"/>
                  <a:pt x="5730" y="15999"/>
                </a:cubicBezTo>
              </a:path>
            </a:pathLst>
          </a:custGeom>
          <a:noFill/>
          <a:ln cap="rnd" w="19080">
            <a:solidFill>
              <a:srgbClr val="ff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4" name=""/>
          <p:cNvSpPr/>
          <p:nvPr/>
        </p:nvSpPr>
        <p:spPr>
          <a:xfrm>
            <a:off x="1081080" y="5303880"/>
            <a:ext cx="81000" cy="135000"/>
          </a:xfrm>
          <a:custGeom>
            <a:avLst/>
            <a:gdLst/>
            <a:ahLst/>
            <a:rect l="l" t="t" r="r" b="b"/>
            <a:pathLst>
              <a:path w="225" h="373">
                <a:moveTo>
                  <a:pt x="3001" y="14932"/>
                </a:moveTo>
                <a:cubicBezTo>
                  <a:pt x="3001" y="15002"/>
                  <a:pt x="3010" y="15037"/>
                  <a:pt x="3051" y="15081"/>
                </a:cubicBezTo>
                <a:cubicBezTo>
                  <a:pt x="3051" y="15149"/>
                  <a:pt x="3025" y="14885"/>
                  <a:pt x="3026" y="14858"/>
                </a:cubicBezTo>
                <a:cubicBezTo>
                  <a:pt x="3028" y="14816"/>
                  <a:pt x="3169" y="14697"/>
                  <a:pt x="3225" y="14734"/>
                </a:cubicBezTo>
                <a:cubicBezTo>
                  <a:pt x="3225" y="14742"/>
                  <a:pt x="3225" y="14751"/>
                  <a:pt x="3225" y="147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187280" y="5286240"/>
            <a:ext cx="81000" cy="115920"/>
          </a:xfrm>
          <a:custGeom>
            <a:avLst/>
            <a:gdLst/>
            <a:ahLst/>
            <a:rect l="l" t="t" r="r" b="b"/>
            <a:pathLst>
              <a:path w="224" h="324">
                <a:moveTo>
                  <a:pt x="3398" y="14734"/>
                </a:moveTo>
                <a:cubicBezTo>
                  <a:pt x="3306" y="14781"/>
                  <a:pt x="3317" y="14889"/>
                  <a:pt x="3324" y="14982"/>
                </a:cubicBezTo>
                <a:cubicBezTo>
                  <a:pt x="3447" y="14982"/>
                  <a:pt x="3619" y="14882"/>
                  <a:pt x="3497" y="14709"/>
                </a:cubicBezTo>
                <a:cubicBezTo>
                  <a:pt x="3432" y="14687"/>
                  <a:pt x="3417" y="14679"/>
                  <a:pt x="3373" y="146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85920" y="5232240"/>
            <a:ext cx="54000" cy="189000"/>
          </a:xfrm>
          <a:custGeom>
            <a:avLst/>
            <a:gdLst/>
            <a:ahLst/>
            <a:rect l="l" t="t" r="r" b="b"/>
            <a:pathLst>
              <a:path w="150" h="521">
                <a:moveTo>
                  <a:pt x="3721" y="14536"/>
                </a:moveTo>
                <a:cubicBezTo>
                  <a:pt x="3693" y="14562"/>
                  <a:pt x="3503" y="14838"/>
                  <a:pt x="3621" y="14784"/>
                </a:cubicBezTo>
                <a:cubicBezTo>
                  <a:pt x="3654" y="14718"/>
                  <a:pt x="3671" y="14685"/>
                  <a:pt x="3696" y="14635"/>
                </a:cubicBezTo>
                <a:cubicBezTo>
                  <a:pt x="3696" y="14618"/>
                  <a:pt x="3696" y="14602"/>
                  <a:pt x="3696" y="14585"/>
                </a:cubicBezTo>
                <a:cubicBezTo>
                  <a:pt x="3711" y="14737"/>
                  <a:pt x="3721" y="14879"/>
                  <a:pt x="3721" y="15032"/>
                </a:cubicBezTo>
                <a:cubicBezTo>
                  <a:pt x="3721" y="15056"/>
                  <a:pt x="3721" y="15064"/>
                  <a:pt x="3721" y="150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57200" y="5180040"/>
            <a:ext cx="81000" cy="133200"/>
          </a:xfrm>
          <a:custGeom>
            <a:avLst/>
            <a:gdLst/>
            <a:ahLst/>
            <a:rect l="l" t="t" r="r" b="b"/>
            <a:pathLst>
              <a:path w="225" h="373">
                <a:moveTo>
                  <a:pt x="3969" y="14387"/>
                </a:moveTo>
                <a:cubicBezTo>
                  <a:pt x="3895" y="14428"/>
                  <a:pt x="3826" y="14459"/>
                  <a:pt x="3795" y="14536"/>
                </a:cubicBezTo>
                <a:cubicBezTo>
                  <a:pt x="3868" y="14543"/>
                  <a:pt x="3926" y="14558"/>
                  <a:pt x="3994" y="14585"/>
                </a:cubicBezTo>
                <a:cubicBezTo>
                  <a:pt x="3925" y="14723"/>
                  <a:pt x="3873" y="14802"/>
                  <a:pt x="3770" y="146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16000" y="5991120"/>
            <a:ext cx="71280" cy="73080"/>
          </a:xfrm>
          <a:custGeom>
            <a:avLst/>
            <a:gdLst/>
            <a:ahLst/>
            <a:rect l="l" t="t" r="r" b="b"/>
            <a:pathLst>
              <a:path w="199" h="199">
                <a:moveTo>
                  <a:pt x="3249" y="16644"/>
                </a:moveTo>
                <a:cubicBezTo>
                  <a:pt x="3174" y="16708"/>
                  <a:pt x="3124" y="16726"/>
                  <a:pt x="3101" y="16818"/>
                </a:cubicBezTo>
                <a:cubicBezTo>
                  <a:pt x="3130" y="16832"/>
                  <a:pt x="3266" y="16825"/>
                  <a:pt x="3299" y="16743"/>
                </a:cubicBezTo>
                <a:cubicBezTo>
                  <a:pt x="3336" y="16652"/>
                  <a:pt x="3158" y="16677"/>
                  <a:pt x="3225" y="16644"/>
                </a:cubicBezTo>
              </a:path>
            </a:pathLst>
          </a:custGeom>
          <a:noFill/>
          <a:ln cap="rnd" w="1908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9" name=""/>
          <p:cNvSpPr/>
          <p:nvPr/>
        </p:nvSpPr>
        <p:spPr>
          <a:xfrm>
            <a:off x="1224000" y="6000840"/>
            <a:ext cx="79200" cy="160200"/>
          </a:xfrm>
          <a:custGeom>
            <a:avLst/>
            <a:gdLst/>
            <a:ahLst/>
            <a:rect l="l" t="t" r="r" b="b"/>
            <a:pathLst>
              <a:path w="224" h="447">
                <a:moveTo>
                  <a:pt x="3597" y="16694"/>
                </a:moveTo>
                <a:cubicBezTo>
                  <a:pt x="3512" y="16643"/>
                  <a:pt x="3476" y="16686"/>
                  <a:pt x="3423" y="16768"/>
                </a:cubicBezTo>
                <a:cubicBezTo>
                  <a:pt x="3401" y="16812"/>
                  <a:pt x="3388" y="16823"/>
                  <a:pt x="3423" y="16842"/>
                </a:cubicBezTo>
                <a:cubicBezTo>
                  <a:pt x="3473" y="16805"/>
                  <a:pt x="3508" y="16731"/>
                  <a:pt x="3547" y="16718"/>
                </a:cubicBezTo>
                <a:cubicBezTo>
                  <a:pt x="3593" y="16839"/>
                  <a:pt x="3665" y="16965"/>
                  <a:pt x="3572" y="17090"/>
                </a:cubicBezTo>
                <a:cubicBezTo>
                  <a:pt x="3531" y="17110"/>
                  <a:pt x="3515" y="17129"/>
                  <a:pt x="3522" y="1709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9920" y="5983200"/>
            <a:ext cx="71280" cy="81000"/>
          </a:xfrm>
          <a:custGeom>
            <a:avLst/>
            <a:gdLst/>
            <a:ahLst/>
            <a:rect l="l" t="t" r="r" b="b"/>
            <a:pathLst>
              <a:path w="199" h="224">
                <a:moveTo>
                  <a:pt x="3919" y="16619"/>
                </a:moveTo>
                <a:cubicBezTo>
                  <a:pt x="3836" y="16627"/>
                  <a:pt x="3820" y="16652"/>
                  <a:pt x="3770" y="16669"/>
                </a:cubicBezTo>
                <a:cubicBezTo>
                  <a:pt x="3824" y="16700"/>
                  <a:pt x="3921" y="16758"/>
                  <a:pt x="3870" y="16793"/>
                </a:cubicBezTo>
                <a:cubicBezTo>
                  <a:pt x="3789" y="16833"/>
                  <a:pt x="3776" y="16849"/>
                  <a:pt x="3721" y="16842"/>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 name=""/>
          <p:cNvSpPr/>
          <p:nvPr/>
        </p:nvSpPr>
        <p:spPr>
          <a:xfrm>
            <a:off x="4446720" y="5840280"/>
            <a:ext cx="9360" cy="27000"/>
          </a:xfrm>
          <a:custGeom>
            <a:avLst/>
            <a:gdLst/>
            <a:ahLst/>
            <a:rect l="l" t="t" r="r" b="b"/>
            <a:pathLst>
              <a:path w="26" h="76">
                <a:moveTo>
                  <a:pt x="12378" y="16222"/>
                </a:moveTo>
                <a:cubicBezTo>
                  <a:pt x="12350" y="16250"/>
                  <a:pt x="12341" y="16264"/>
                  <a:pt x="12353" y="16297"/>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4438800" y="6027840"/>
            <a:ext cx="9360" cy="1440"/>
          </a:xfrm>
          <a:custGeom>
            <a:avLst/>
            <a:gdLst/>
            <a:ahLst/>
            <a:rect l="l" t="t" r="r" b="b"/>
            <a:pathLst>
              <a:path w="26" h="1">
                <a:moveTo>
                  <a:pt x="12328" y="16743"/>
                </a:moveTo>
                <a:cubicBezTo>
                  <a:pt x="12336" y="16743"/>
                  <a:pt x="12345" y="16743"/>
                  <a:pt x="12353" y="16743"/>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name ratios, and find equivalent ratios.</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txBox="1"/>
          <p:nvPr/>
        </p:nvSpPr>
        <p:spPr>
          <a:xfrm rot="319200">
            <a:off x="609480" y="1600200"/>
            <a:ext cx="670572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t’s time to CLEAN YOUR ROO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6" name="" descr=""/>
          <p:cNvPicPr/>
          <p:nvPr/>
        </p:nvPicPr>
        <p:blipFill>
          <a:blip r:embed="rId1"/>
          <a:stretch/>
        </p:blipFill>
        <p:spPr>
          <a:xfrm>
            <a:off x="5105520" y="3733920"/>
            <a:ext cx="2604960" cy="1958760"/>
          </a:xfrm>
          <a:prstGeom prst="rect">
            <a:avLst/>
          </a:prstGeom>
          <a:ln w="0">
            <a:noFill/>
          </a:ln>
        </p:spPr>
      </p:pic>
      <p:sp>
        <p:nvSpPr>
          <p:cNvPr id="157" name=""/>
          <p:cNvSpPr/>
          <p:nvPr/>
        </p:nvSpPr>
        <p:spPr>
          <a:xfrm>
            <a:off x="1268280" y="6724800"/>
            <a:ext cx="133560" cy="98280"/>
          </a:xfrm>
          <a:custGeom>
            <a:avLst/>
            <a:gdLst/>
            <a:ahLst/>
            <a:rect l="l" t="t" r="r" b="b"/>
            <a:pathLst>
              <a:path w="373" h="274">
                <a:moveTo>
                  <a:pt x="3894" y="18678"/>
                </a:moveTo>
                <a:lnTo>
                  <a:pt x="3894" y="18678"/>
                </a:lnTo>
              </a:path>
              <a:path w="373" h="274">
                <a:moveTo>
                  <a:pt x="3522" y="18951"/>
                </a:moveTo>
                <a:lnTo>
                  <a:pt x="3522" y="18951"/>
                </a:lnTo>
                <a:lnTo>
                  <a:pt x="3522" y="18951"/>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the Equivalent Ratios 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02:00:24Z</dcterms:created>
  <dc:creator>deanne e mcgrath</dc:creator>
  <dc:description/>
  <dc:language>en-US</dc:language>
  <cp:lastModifiedBy>deanne e mcgrath</cp:lastModifiedBy>
  <dcterms:modified xsi:type="dcterms:W3CDTF">2011-10-11T19:15:46Z</dcterms:modified>
  <cp:revision>3</cp:revision>
  <dc:subject/>
  <dc:title>October 11, 2011       Course 2 Warm-up</dc:title>
</cp:coreProperties>
</file>